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glass.wav" ContentType="audio/x-wav"/>
  <Override PartName="/ppt/media/image10.png" ContentType="image/png"/>
  <Override PartName="/ppt/media/applause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90E-AC77-4D54-89EE-98711C2A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F24-7890-4D7B-AE6A-AF677FED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CDB-2F44-47F5-8E4B-6307C2F8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6B2-42FA-4F62-A0CD-33D0B0B2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1F2-9BF3-400F-B80D-BD8DDDAC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6F3-41D5-406B-A9A8-4F1D2DE0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D97-572B-4C5C-B089-AD9CBD49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944-261F-4852-8D06-7A4804A4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8AB-7644-4FA2-8E70-D46C80CA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FFA-B777-495C-94F1-BC0DA022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D4E-9DF2-4286-B475-1AD7CF56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FB23-B9D0-4009-94BC-6E886887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8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FDAE-D170-461F-86E5-EF9A79AEF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8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3141720"/>
            <a:ext cx="3124080" cy="291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380880"/>
            <a:ext cx="7632720" cy="2133720"/>
          </a:xfrm>
          <a:prstGeom prst="wedgeRoundRectCallout">
            <a:avLst>
              <a:gd name="adj1" fmla="val 19282"/>
              <a:gd name="adj2" fmla="val 84300"/>
              <a:gd name="adj3" fmla="val 16667"/>
            </a:avLst>
          </a:prstGeom>
          <a:solidFill>
            <a:srgbClr val="00cc99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1268280"/>
            <a:ext cx="5867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NOLA BIRZIKLATU?</a:t>
            </a:r>
            <a:endParaRPr b="0" i="1" lang="en-US" sz="2400" spc="1" strike="noStrike">
              <a:ln w="1260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8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800" spc="-1" strike="noStrike">
                <a:solidFill>
                  <a:srgbClr val="336699"/>
                </a:solidFill>
                <a:latin typeface="Arial"/>
              </a:rPr>
              <a:t>Etxean zaborra bildu eta sailkatu egin behar duz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773360"/>
            <a:ext cx="3581280" cy="2133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3280" y="2421000"/>
            <a:ext cx="960480" cy="137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1096920" cy="156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92720" y="1628640"/>
            <a:ext cx="2971800" cy="266400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516720" y="1916280"/>
            <a:ext cx="4921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164360" y="2492280"/>
            <a:ext cx="7653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724360" y="2637000"/>
            <a:ext cx="67788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4648320"/>
            <a:ext cx="2666880" cy="1523880"/>
          </a:xfrm>
          <a:custGeom>
            <a:avLst/>
            <a:gdLst>
              <a:gd name="textAreaLeft" fmla="*/ 586440 w 2666880"/>
              <a:gd name="textAreaRight" fmla="*/ 2080440 w 2666880"/>
              <a:gd name="textAreaTop" fmla="*/ 335160 h 1523880"/>
              <a:gd name="textAreaBottom" fmla="*/ 11887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1619280" y="4797360"/>
            <a:ext cx="936720" cy="118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4572000" y="4581360"/>
            <a:ext cx="2952720" cy="17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8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0" y="105264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800" spc="-1" strike="noStrike">
                <a:solidFill>
                  <a:srgbClr val="336699"/>
                </a:solidFill>
                <a:latin typeface="Arial"/>
              </a:rPr>
              <a:t>Latak, brikak eta plastikoak edukiontzi horian sartu behar dituz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422100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800" spc="-1" strike="noStrike">
                <a:solidFill>
                  <a:srgbClr val="336699"/>
                </a:solidFill>
                <a:latin typeface="Arial"/>
              </a:rPr>
              <a:t>Beirazko botilak edukiontzi berdean sartu behar dituz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2286000" cy="196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24573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8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16286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800" spc="-1" strike="noStrike">
                <a:solidFill>
                  <a:srgbClr val="336699"/>
                </a:solidFill>
                <a:latin typeface="Arial"/>
              </a:rPr>
              <a:t>Paperak eta kartoiak edukiontzi urdinean sartu behar dituzu</a:t>
            </a:r>
            <a:r>
              <a:rPr b="1" lang="eu-ES" sz="28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414972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800" spc="-1" strike="noStrike">
                <a:solidFill>
                  <a:srgbClr val="336699"/>
                </a:solidFill>
                <a:latin typeface="Arial"/>
              </a:rPr>
              <a:t>Pilak edukiontzi txikietan sartu behar dituz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052640"/>
            <a:ext cx="2590920" cy="2066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80000" y="3860640"/>
            <a:ext cx="20890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8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3244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4360" y="907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336699"/>
                </a:solidFill>
                <a:latin typeface="Arial"/>
              </a:rPr>
              <a:t>Ondoren, kamioiek gauzak batu eta lantegietara eramaten dituz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8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2851200" cy="2895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067280" y="2133720"/>
            <a:ext cx="41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800" spc="-1" strike="noStrike">
                <a:solidFill>
                  <a:srgbClr val="336699"/>
                </a:solidFill>
                <a:latin typeface="Arial"/>
              </a:rPr>
              <a:t>Lantegietan papera, plastikoak eta beirak birziklatzen dituzte, produktu berriak sortzek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8:40:16Z</dcterms:created>
  <dc:creator>Usuario1</dc:creator>
  <dc:description/>
  <dc:language>en-US</dc:language>
  <cp:lastModifiedBy>ej01407m</cp:lastModifiedBy>
  <dcterms:modified xsi:type="dcterms:W3CDTF">2006-03-01T08:19:41Z</dcterms:modified>
  <cp:revision>10</cp:revision>
  <dc:subject/>
  <dc:title>Presentación de PowerPoint</dc:title>
</cp:coreProperties>
</file>