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16C-BBAD-4CE0-A474-789024BF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843-F5AA-4638-AEEB-30B5C011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9044-9FF7-4DA0-97E8-958C0CF7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07B-7275-4EC8-AC16-5E8CB5B2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D3F9-F8C2-4485-8FF8-4599397D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08CF-BD8F-4000-9C63-771B4589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C902-7683-4620-8A5E-53555F6F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2D64-DEB0-4C3B-8F3D-57375A30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5169-BD79-417B-8EEA-DCEC7D2E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F630-9A0B-4347-870C-2DFE7AAD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C0F0-D07A-44AC-B233-9E6A6D9D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1EC2-6BB0-41B1-B296-2F846A27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508E-A860-410A-9CD0-7F1CF417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A574-4099-45CC-AB3D-5ECA376B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AE19-5FC1-476F-BCFE-080A4C89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6826-DF61-4C2C-9697-D0E77DB3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14C3-BF6A-465D-9E5C-3A38A41A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3A3-339C-4876-AAA0-30DA27C6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0B8-540A-48B5-86E3-FCFE60D6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DF7-58D0-482C-9621-888B620D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6AB-7109-44FB-AD69-3EF3DDBE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BB5-7E51-4DCF-93FB-FCAAE0B1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938-7C27-4DB2-9645-E1FFBF5A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FB3-048A-49CE-BBED-6AF43533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7384-0FED-4313-96B3-09E5BDBD60C9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5671-E8B3-4F9E-9541-B414892FA5B8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a3d7a"/>
                </a:solidFill>
                <a:latin typeface="Arial"/>
              </a:rPr>
              <a:t>IJITO HERRIARENTZAKO</a:t>
            </a:r>
            <a:br>
              <a:rPr sz="4400"/>
            </a:br>
            <a:r>
              <a:rPr b="0" lang="es-ES" sz="4400" spc="-1" strike="noStrike">
                <a:solidFill>
                  <a:srgbClr val="2a3d7a"/>
                </a:solidFill>
                <a:latin typeface="Arial"/>
              </a:rPr>
              <a:t> II EUSKAL  PLA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0920" y="43657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3280" y="4602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a3d7a"/>
                </a:solidFill>
                <a:latin typeface="Arial"/>
              </a:rPr>
              <a:t>PLANAREN HELBURUAK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200" spc="-1" strike="noStrike">
                <a:solidFill>
                  <a:srgbClr val="5b5249"/>
                </a:solidFill>
                <a:latin typeface="Arial"/>
                <a:ea typeface="Times New Roman"/>
              </a:rPr>
              <a:t>Emakume eta gizon ijitoen bizi kalitatea eta gizarte-ongizatea hobetu. Ijito komunitatearen partaide diren batzuek beste gizakiengan dituzten desberdintasunak gainditzen ahalbidetu</a:t>
            </a:r>
            <a:r>
              <a:rPr b="0" lang="eu-ES" sz="3200" spc="-1" strike="noStrike">
                <a:solidFill>
                  <a:srgbClr val="5b5249"/>
                </a:solidFill>
                <a:latin typeface="Arial"/>
                <a:ea typeface="Times New Roman"/>
              </a:rPr>
              <a:t> </a:t>
            </a:r>
            <a:r>
              <a:rPr b="1" lang="eu-ES" sz="3200" spc="-1" strike="noStrike">
                <a:solidFill>
                  <a:srgbClr val="5b5249"/>
                </a:solidFill>
                <a:latin typeface="Arial"/>
                <a:ea typeface="Times New Roman"/>
              </a:rPr>
              <a:t>eta horretarako dauden oztopoak</a:t>
            </a:r>
            <a:r>
              <a:rPr b="0" lang="eu-ES" sz="3200" spc="-1" strike="noStrike">
                <a:solidFill>
                  <a:srgbClr val="5b5249"/>
                </a:solidFill>
                <a:latin typeface="Arial"/>
                <a:ea typeface="Times New Roman"/>
              </a:rPr>
              <a:t> </a:t>
            </a:r>
            <a:r>
              <a:rPr b="1" lang="eu-ES" sz="3200" spc="-1" strike="noStrike">
                <a:solidFill>
                  <a:srgbClr val="5b5249"/>
                </a:solidFill>
                <a:latin typeface="Arial"/>
                <a:ea typeface="Times New Roman"/>
              </a:rPr>
              <a:t>deuseztatu.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b5249"/>
                </a:solidFill>
                <a:latin typeface="Arial"/>
              </a:rPr>
              <a:t>Ijitoen partaidetza soziala  gizartearen arlo guztietan bultzatu 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b5249"/>
                </a:solidFill>
                <a:latin typeface="Arial"/>
                <a:ea typeface="Arial"/>
              </a:rPr>
              <a:t>Elkarbizitzarako hobespenak erakarri Ijito Herriaren kultura eta historiaren ezagupena bultzatzen  eta bere nortasun propioa aitortz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a3d7a"/>
                </a:solidFill>
                <a:latin typeface="Arial"/>
              </a:rPr>
              <a:t>  </a:t>
            </a:r>
            <a:br>
              <a:rPr sz="4400"/>
            </a:br>
            <a:r>
              <a:rPr b="0" lang="es-ES" sz="4400" spc="-1" strike="noStrike">
                <a:solidFill>
                  <a:srgbClr val="2a3d7a"/>
                </a:solidFill>
                <a:latin typeface="Arial"/>
              </a:rPr>
              <a:t>HEZKUNTZA SAILAREN KONPROMISOAK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b5249"/>
                </a:solidFill>
                <a:latin typeface="Arial"/>
              </a:rPr>
              <a:t>Haur eta gazte ijitoen eskola-arrakasta eta goi-mailako etapetan eskolaratzean aurrera egitea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200" spc="-1" strike="noStrike">
                <a:solidFill>
                  <a:srgbClr val="5b5249"/>
                </a:solidFill>
                <a:latin typeface="Arial"/>
              </a:rPr>
              <a:t>Pertsona helduen prestakuntza-prozesuetan partaidetza handitzea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988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b5249"/>
                </a:solidFill>
                <a:latin typeface="Arial"/>
              </a:rPr>
              <a:t>Herri Ijitoaren </a:t>
            </a:r>
            <a:r>
              <a:rPr b="1" lang="eu-ES" sz="3200" spc="-1" strike="noStrike">
                <a:solidFill>
                  <a:srgbClr val="5b5249"/>
                </a:solidFill>
                <a:latin typeface="Arial"/>
              </a:rPr>
              <a:t>kultura eta historiari</a:t>
            </a:r>
            <a:r>
              <a:rPr b="1" lang="es-ES" sz="32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b524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5b5249"/>
                </a:solidFill>
                <a:latin typeface="Arial"/>
              </a:rPr>
              <a:t>buruzko ezagutza zabaltzea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5b5249"/>
                </a:solidFill>
                <a:latin typeface="Arial"/>
              </a:rPr>
              <a:t>Eskolan porrot egin duten ijito ikasle asko dituzten ikastetxeak ikasleek derrigorrezko eskolatzearen mailak lortuko dituztela bermatuko duten zentro bihurtzea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3488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808344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u-ES" sz="3200" spc="-1" strike="noStrike">
                <a:solidFill>
                  <a:srgbClr val="5b5249"/>
                </a:solidFill>
                <a:latin typeface="Arial"/>
              </a:rPr>
              <a:t>Ijito herriaren giza errealitatea, kultura eta historiari buruzko formakuntzarako ekintzak antolatu ijitoekin lanean dauden profesioonalei zuzenduak</a:t>
            </a:r>
            <a:r>
              <a:rPr b="1" lang="es-ES" sz="3200" spc="-1" strike="noStrike">
                <a:solidFill>
                  <a:srgbClr val="5b524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200" spc="-1" strike="noStrike">
                <a:solidFill>
                  <a:srgbClr val="5b5249"/>
                </a:solidFill>
                <a:latin typeface="Arial"/>
              </a:rPr>
              <a:t>Ijito komunitatearekin dauden esku hartzetan  hoberantz jarraitu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2a3d7a"/>
                </a:solidFill>
                <a:latin typeface="Arial"/>
              </a:rPr>
              <a:t>JARDUNBIDEAK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Arial"/>
              </a:rPr>
              <a:t>Euren historiara, kulturara eta abarrera hurbildu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Arial"/>
              </a:rPr>
              <a:t>Ikas-irakas prozesuak hobetu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Arial"/>
              </a:rPr>
              <a:t>Familiekin harremanak sendotu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Arial"/>
              </a:rPr>
              <a:t>Ijito-herriaren agerpena curriculumean egiaztatu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Arial"/>
              </a:rPr>
              <a:t>Desberdintasunak gainditu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13:45:26Z</dcterms:created>
  <dc:creator>Jon salaberria</dc:creator>
  <dc:description/>
  <dc:language>en-US</dc:language>
  <cp:lastModifiedBy>Begoña</cp:lastModifiedBy>
  <dcterms:modified xsi:type="dcterms:W3CDTF">2008-12-17T21:49:38Z</dcterms:modified>
  <cp:revision>41</cp:revision>
  <dc:subject/>
  <dc:title>PLAN VASCO PARA EL PUEBLO GITANO</dc:title>
</cp:coreProperties>
</file>