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A2C-B2AA-498F-AE51-08C5CAD1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E0E-6195-42A1-A415-99BACB4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20B-E291-400E-8C2D-BC90435B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684-6FB8-480B-8FCD-D6E444CA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DB08-E014-4F5F-93EF-9A04A6FC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F600-5595-4702-A7DD-985E8585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C62-DB6F-44C9-A414-6DC6EA7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5CE3-996D-467F-AE60-45B73756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B69-876D-49E7-B28A-4BC00DC7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D4D1-9D86-49FF-B546-4B3CD480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76B2-D55B-4ED5-8CC6-D563B168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9D1-6412-4BA1-A186-BFA33E8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350F-45A1-497F-9476-04806B1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98B9-09C5-41DA-A5C9-E71B209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806-A203-4FD5-BB7F-C6917DAA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D728-99B4-4431-B80A-1D0CD499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4C57-974A-46F1-9C34-315BEC6F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BB5-99A9-4D88-B628-5C24CA4E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1B9-3545-4D4E-9EE1-2D0E479D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C51-4BA7-41D6-94E6-71C7365C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34B-3F4C-4B01-B271-F96B6788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0F3-653D-41DB-9CF6-8DC706F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A2D-B072-49F1-B795-3E4D180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8DC-2999-48E3-BF70-F56E22D4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F51-4D6A-4658-AC33-AAD9BD1C9FF3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EAD-F7DF-48DC-AF90-0F8A34AD428A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II PLAN VASCO PARA EL PUEBLO GITAN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FINALIDADES DEL PL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Mejorar la calidad de vida y el  bienestar social de las y los gitanos posibilitando la superación de las desigualdades de las que parte la comunidad gitana en relación con el resto de la población y eliminando las barreras que lo dificult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Favorecer la participación social de las y los gitanos en diferentes espacios de la vida pública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ropiciar una mejor convivencia mediante el conocimiento de la cultura e historia del pueblo gitano y el reconocimiento de la identidad gitana.</a:t>
            </a:r>
            <a:r>
              <a:rPr b="0" lang="es-ES" sz="32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COMPROMISOS DEL DPTO. DE EDUCAC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umentar el éxito escolar de niñas, niños y jóvenes gitanas y gitanos y su incorporación a etapas educativas superiore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Mejora en el acceso a la formación por parte de gitanos y gitanas adult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988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Incrementar el conocimiento de la cultura e historia gitana</a:t>
            </a:r>
            <a:r>
              <a:rPr b="0" lang="es-ES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Transformación de centros de alto índice de alumnado gitano con fracaso escolar en centros que garanticen que su alumnado alcanza los niveles de la escolaridad obligatori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348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808344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Realización de acciones formativas sobre la realidad, la historia y la cultura gitana dirigidas a las y los profesionales que trabajan con personas gitana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Mejora continua  en materia de intervención con la comunidad gitan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Arial"/>
              </a:rPr>
              <a:t>LINEAS DE ACTUAC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Arial"/>
              </a:rPr>
              <a:t>Acercamiento a su historia, cultura, 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Arial"/>
              </a:rPr>
              <a:t>Mejora de los procesos de enseñanza-aprendizaj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Arial"/>
              </a:rPr>
              <a:t>Relación de comunicación con las familias gitan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Arial"/>
              </a:rPr>
              <a:t>Visibilidad del pueblo gitano en el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Arial"/>
              </a:rPr>
              <a:t>Superación de desigualdad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3:45:26Z</dcterms:created>
  <dc:creator>Jon salaberria</dc:creator>
  <dc:description/>
  <dc:language>en-US</dc:language>
  <cp:lastModifiedBy>Begoña</cp:lastModifiedBy>
  <dcterms:modified xsi:type="dcterms:W3CDTF">2008-12-13T20:49:46Z</dcterms:modified>
  <cp:revision>28</cp:revision>
  <dc:subject/>
  <dc:title>PLAN VASCO PARA EL PUEBLO GITANO</dc:title>
</cp:coreProperties>
</file>