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CCE-F333-4173-821E-E92DAA61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03E-825A-40AA-AD05-E8BA82C7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1BB-591A-4910-85F1-A6522EC2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080-C2E3-44FF-8BE7-6C63F424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F1B3-5226-4F19-AA7E-1AF47C3F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6643-782F-4D95-8C2A-D0B378C0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F0EA-0355-42DA-926F-0F2149B0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27F0-4319-4165-8144-36303C50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9B0D-21E4-4C51-AAD9-18E453BC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A570-2254-4D16-8089-E280F25E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F60D-4ADF-4C59-94ED-161EE96D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4F95-16A1-4FC1-902C-BA765B94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61AD-1A91-4926-913D-DC694283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A5B9-8668-4D2F-AC70-3A7C3813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476D-C54B-4FC3-ABEA-AD9DF5CE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F77A-D4A3-4F2E-935D-501593CB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91C6-F1F6-4A20-B410-76D1C1A1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73F-69B9-4D8E-8B72-350C7464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B0D-BB83-49CC-8F3C-2C33DDAF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5B3-C448-4B8B-8454-8B961BFC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AD7-D2DF-401E-AF8F-53DA3358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C8D-D5F7-47B8-92C1-BCB5A927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875-9C98-4226-9A69-05915253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49E-FD4D-453C-A994-85F3AAB3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F421-7C51-40FB-BB90-5E0215B98D38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D535-6B3B-40B6-90D0-2770C18E5BAD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600" spc="-1" strike="noStrike">
                <a:solidFill>
                  <a:srgbClr val="003366"/>
                </a:solidFill>
                <a:latin typeface="Arial"/>
              </a:rPr>
              <a:t>METODOLOGIA ETA ANTOLAKUNTZA ESTRATEGIAK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6666"/>
                </a:solidFill>
                <a:latin typeface="Arial"/>
              </a:rPr>
              <a:t>Irakaskuntza-ikaskuntza prozesuak hobetze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600" spc="-1" strike="noStrike">
                <a:solidFill>
                  <a:srgbClr val="006666"/>
                </a:solidFill>
                <a:latin typeface="Arial"/>
              </a:rPr>
              <a:t>Tailerra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Jarduera praktikoen bidez programazioetako edukiak lantzen di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Horretarako, guneak eta materiala behar di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Era askotarikoak izan daitezke: irratia, prentsa, elikadura, mekanika, elektrizitatea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600" spc="-1" strike="noStrike">
                <a:solidFill>
                  <a:srgbClr val="006666"/>
                </a:solidFill>
                <a:latin typeface="Arial"/>
              </a:rPr>
              <a:t>BERARIAZ ESKU HARTZEKO PROIEKTUAK (DBHn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ZER AHALBIDETZEN DU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Ikasgelako irakasle gutxiago egotea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Diziplina arteko programazioa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Ikasgelako bi edo hiru irakaslek gauzaturiko baterako l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Tutoretzak indartzea: tutoretza-ekintza partekatua eta banakako tutoretz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Tutoretzapeko liburute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600" spc="-1" strike="noStrike">
                <a:solidFill>
                  <a:srgbClr val="006666"/>
                </a:solidFill>
                <a:latin typeface="Arial"/>
              </a:rPr>
              <a:t>ESTRATEGIAK HAUTATZEKO IRIZPIDEA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Ikaskuntza instrumentalak indartu behar dira ikasgela arruntet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Ikasleak ahalik eta gehien ikasten ari direla sustatzea etengab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Ikasten denari zentzua emate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Etxeko eta ikastetxeko kultura elkarrenagana hurbiltze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Hurbileko tutoretzak on egiten dio ikaskuntza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Ezinbestekoa da irakasle, familia eta bestelako eragileen arteko koordinazio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600" spc="-1" strike="noStrike">
                <a:solidFill>
                  <a:srgbClr val="006666"/>
                </a:solidFill>
                <a:latin typeface="Arial"/>
              </a:rPr>
              <a:t>Talde elkarreragilea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Talde heterogeneoak sortzea, taldeko pertsona heldu bateki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Talde-kopuruak adina jarduera antolatuko dira, eta aldi berean gauzatuk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Talde guztiek 20 minutu eta ordubete arteko iraupena duten jarduera guztiak gauzatu beharko dituzte txandak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600" spc="-1" strike="noStrike">
                <a:solidFill>
                  <a:srgbClr val="006666"/>
                </a:solidFill>
                <a:latin typeface="Arial"/>
              </a:rPr>
              <a:t>Talde elkarreragileak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Jarduerak gauzatzeko, elkarri lagundu beharko diote ikasle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Pertsona helduaren egitekoa jarduera gauzatu ahal izateko elkarrekintzak eta berdinen arteko laguntza sustatzean datz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Ikasleak ikasten ari dira une or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Eztabaida, arrazoiketa eta pertsonen arteko komunikazioa sustatzen dute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600" spc="-1" strike="noStrike">
                <a:solidFill>
                  <a:srgbClr val="006666"/>
                </a:solidFill>
                <a:latin typeface="Arial"/>
              </a:rPr>
              <a:t>Bi irakasle ikasge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Gehiago eta hobeto kontrolatzen dugu ikasgelan gertatzen de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Zereginak taldean antolatzeko aukera ematen du, baita gune berean hainbat jarduera gauzatzekoa e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Berdinen arteko laguntzari ematen dio b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Laguntza zuzenagoa ematen zaie behar handiena duten ikasle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600" spc="-1" strike="noStrike">
                <a:solidFill>
                  <a:srgbClr val="006666"/>
                </a:solidFill>
                <a:latin typeface="Arial"/>
              </a:rPr>
              <a:t>Bi irakasle ikasgelan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Lanaren jarraipena hobeto egiteko aukera ematen du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Garrantzitsua da pertsona bakoitzaren zeregina argi uztea: batak zuzendu eta lagundu bestea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Zereginak koordinatzeko eta antolatzeko denbora eskatzen 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Ikasleen jarduna nagusitzen da saio hauetan (ez, ordea, irakasleen azalpena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Talde kooperatiboa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Berdinen arteko elkarrekintza eta kooperazioa sustatzen du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Asmo handiak eta guztien ekarpenak sustatzen dituz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Antolatuz gero, eztabaida, arrazoiketa eta pertsonen arteko komunikazioa ahalbidetzen du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3366"/>
                </a:solidFill>
                <a:latin typeface="Arial"/>
              </a:rPr>
              <a:t>Guztiek zeregina betetzeko eta zeregin hori ikasbidetzat hartzeko konpromiso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600" spc="-1" strike="noStrike">
                <a:solidFill>
                  <a:srgbClr val="006666"/>
                </a:solidFill>
                <a:latin typeface="Arial"/>
              </a:rPr>
              <a:t>Jarduerak maila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Gauza bera ikastea ahalbidetzen dute, baina zailtasuna maila desberdinek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Unitate didaktikoa horrela antolatuz gero, ikasle guztiak sar daitezke eskola-zereginet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Beste hainbat estrategiarekin ere konbina daite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600" spc="-1" strike="noStrike">
                <a:solidFill>
                  <a:srgbClr val="006666"/>
                </a:solidFill>
                <a:latin typeface="Arial"/>
              </a:rPr>
              <a:t>Lan-proiektua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Arlo baten ingurukoak edo diziplina artekoak izan daitez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Ikasleentzat lagungarri dira beraien ikaskuntzaren sekuentzia antolatzek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3366"/>
                </a:solidFill>
                <a:latin typeface="Arial"/>
              </a:rPr>
              <a:t>Hainbat zeregin eta jarduera ahalbidetzen dute: datu-bilaketa, informazioa, zereginen banatzea, azalpenak, gatazken konponbidea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21:10:30Z</dcterms:created>
  <dc:creator>ies mungia lauaxeta</dc:creator>
  <dc:description/>
  <dc:language>en-US</dc:language>
  <cp:lastModifiedBy>Joseba Ossa Altzibar</cp:lastModifiedBy>
  <dcterms:modified xsi:type="dcterms:W3CDTF">2006-10-17T13:56:47Z</dcterms:modified>
  <cp:revision>44</cp:revision>
  <dc:subject/>
  <dc:title>Grupos interactivos</dc:title>
</cp:coreProperties>
</file>