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BC0-1737-4035-B839-D50B60BB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3C7-501E-4ABC-888B-A12C276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E28-53B2-4AA1-B4E7-48D9B873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479-E320-49D5-ABB1-496C9EDF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EF4-263C-47A9-B3E5-B82072A4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A93B-238B-4EDE-A233-A8DBB22E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EEB-0356-448C-82E8-DAF624B9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BC9-374A-4231-BA14-5C1E7B3B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E5E-E031-4952-80FB-8B0CADC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FC7-3F35-471D-9005-00387304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EA3A-2F5C-4650-A99C-A3F5FE22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CCE-4224-43D7-917A-90CA713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2D74-EF14-4C41-B4B6-CD36A41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C75F-A002-4048-A80E-1869586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4C6C-4966-4CAB-82CD-219E2C2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52AF-CF39-4876-8093-A8EEC74C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587E-0391-4B62-AEDE-09D7B9EE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85C-6AE1-4E48-991F-4648BC8C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EAF-8564-4465-A41B-C377B50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7FE-BE5D-4A3C-BDC6-9298BEB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66E-50AF-49E2-876F-43BBFAF2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4F2-C890-4A44-ADFB-498BB96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1A0-AFFC-4343-A60C-1D6324D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86D-D59E-425B-8AB9-8E616BC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D39-360C-44DD-BB24-19361138911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299-DBCA-4F9C-BF01-5DFCE4B24B4F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ESCOLARIZACION DEL ALUMNADO GITAN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NORAMA GENERAL   EN LA CAV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EJORA DE LA ESCOLARIZAC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LO QUE SE NECESIT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nriquecer el curriculo, reforzando los aprendizajes instrumentales útiles en la actual socie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Que el alumnado esté todo el tiempo aprendiendo: cambios metodológicos y organizat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acer presente en la escuela y en el curriculo la cultura gitana en clave intercultur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tenciar la participación y formación de familia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artir metas entre alumnado, profesorado y famil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tenciar altas expectati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r con referentes gitanos que nos animen y ayuden en el cami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umir la obligatoriedad de la educación con todas sus consecuencias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LA ESCOLARIZACION EN LA CAV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scolarización reci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vances importa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n educación infant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asi 100% en Prim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co a poco se incorporan a Secund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e inician en Post-obligato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ayoritariamente en modelo 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Las 2/3 partes en unos pocos centros de la red públ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Una tercera parte “disperso” en numerosos cen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umenta su escolarización en la privada-concerta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ejora de la escolarización temprana y asistencia, pero con índices de asistencia irregular y absentismo preocupa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Éxito escolar muy por debajo del gener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rcentaje bajo de aprobados en Prim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rcentaje alto de abandono de Secundaria antes de los 16 añ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cos Graduados Escolares y estudios pos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Muy diferentes relaciones entre alumnado gitano y no gitano. Están juntos pero no siempre conviv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Interés de las familias gitanas en la escolarización de sus hijos e hij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ocas experiencias positi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gentes imprescindib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La percepción del profesorado al respecto, fruto de la histo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laciones entre profesorado y familias, imprescindibles para avanz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ecesidad de proyectos de formación e innovación para lograr el éxito escolar y la convivencia intercultura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cursos diversos y desigualmente reparti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ecesidad de trabajar junto al resto de recursos socio-educativos zon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a transformar esta realidad se precisa la acción coordinada de Berritzegunes, Inspección, Planificación..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MEJORA DE LA ESCOLARIZAC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LO QUE NO FUNCION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didas segregador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tear sus necesidades como carenc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oponernos “mínimo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Que sigan invisi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ificar medidas “cuantificando” en vez de analizando la situ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Tomar decisiones sin contar con ellos y ell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a3d7a"/>
                </a:solidFill>
                <a:latin typeface="Times New Roman"/>
              </a:rPr>
              <a:t>LO QUE AYUDA A MEJORAR   LA ESCOLARIZAC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 conocer la cultura y situación social concreta del alumna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ablecer una relación de comunicación fluida y de confianza  con las famil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jora de los procesos de enseñanza-aprendizaje para  potenciar la asistencia y el éxito esco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acer visible al pueblo gitano en el curricul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uidar la acogida del alumnado y el tránsito de Primaria a Secund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2:19:01Z</dcterms:created>
  <dc:creator>Jon salaberria</dc:creator>
  <dc:description/>
  <dc:language>en-US</dc:language>
  <cp:lastModifiedBy>Jon salaberria</cp:lastModifiedBy>
  <dcterms:modified xsi:type="dcterms:W3CDTF">2005-03-12T13:44:57Z</dcterms:modified>
  <cp:revision>19</cp:revision>
  <dc:subject/>
  <dc:title>ESCOLARIZACION DEL ALUMNADO GITANO</dc:title>
</cp:coreProperties>
</file>