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244-6610-4511-BCEB-D005367F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682-345B-4CB2-85B2-D556ED4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0CE-6017-4AA5-8004-063B4572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F10-2048-46A7-B8EF-6848873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9DFE-1561-435F-87AA-04A3D9C7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5D22-2B8F-404D-B35A-B056CA1C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8252-A7BB-4DCC-B8DE-9C2DCAC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103-A7D9-4DDF-AAF1-28C2339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541-A2AD-4507-97C5-D2A4DE3E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64E1-0AEB-4285-8558-2C878AC3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66E2-CD2D-4238-88A8-02B7065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1D3-0D05-4EAA-8A87-3D33DC72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BED-92DC-4E15-8EF6-561E467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55D-4BC7-40F7-985F-AEB74B3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C59-438A-4B50-8886-111820EF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43F-2B08-4569-8E45-1AE8D60B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B222-40AE-4998-B425-06C236C3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6B1-BAF4-4F11-9A8B-ACA3A90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02F-8FBC-4F9B-B361-1239A56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9EB-FEA9-44C2-B6CD-0902018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D95-8E39-479A-986D-8C9D4F5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0C9-A057-4338-B8B7-C590F10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722-37D1-46C8-BED7-2B27FE4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D0B-B0E0-48FB-8E80-E838206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A58E-57D5-45DA-B2C8-DE38209C7D0E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8EA5-9C09-40CC-9A48-97CD9B3F907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IKASLE IJITOEN ESKOLATZE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EAEko EGOERA OROKORR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ESKOLATZEAREN HOBETZ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BEHAR D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Curriculuma aberastea. Horretarako, indartu egin behar dira egungo gizarterako baliagarri diren ikaskuntz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kaslea etengabe ikasten aritzea: metodologia- eta antolamendu-aldaket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kastetxean eta curriculumean ijitoen kulturari tokia egitea kultura artekotasuna kontuan hartuz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Senitartekoen parte-hartzea eta prestakuntza sustatz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kasle, irakasle eta familiek helburu berberak izat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Asmo handiak sustatz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jito erreferentzialak eredutzat hartzea, bidean aurrera egiteko adoreaz eta laguntzaz jabetzek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Hezkuntzaren derrigortasuna eta berekin dakartzan ondorioak onartz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ESKOLATZEA EAE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Berriki izaniko eskolatze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Aurrerapen garrantzitsu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Haur Hezkuntz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a %100 Lehen Hezkuntz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Pixkanaka Bigarren Hezkuntzan sartz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Derrigorrezko Hezkuntza ondoko ikasketetan sartzen hasi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Gehienak A eredu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2/3ak sare publikoko ikastetxe gutxi batzuet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Heren bat hainbat ikastetxetan “barreiatuta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Gehitu egin dira hitzartutako ikastetxe pribatuetan eskolatutako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Hobetu egin da eskolatze goiztiarra eta asistentzia, baina asistentzia irregularraren eta absentismoaren adierazleak kezkagarriak dir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Eskola-arrakasta, orokorra baino askoz ere txikiago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5b5249"/>
                </a:solidFill>
                <a:latin typeface="Times New Roman"/>
              </a:rPr>
              <a:t>Lehen Hezkuntza gainditu dutenen portzentaje txik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5b5249"/>
                </a:solidFill>
                <a:latin typeface="Times New Roman"/>
              </a:rPr>
              <a:t>16 urte bete aurretik Bigarren Hezkuntza uzten dutenen portzentaje altu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5b5249"/>
                </a:solidFill>
                <a:latin typeface="Times New Roman"/>
              </a:rPr>
              <a:t>Eskola Graduatu eta ondoko ikasketa gutx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Oso harreman desberdinak ikasle ijito eta ez-ijitoen artean. Elkarren ondoan bizi dira, baina ez beti elkarreki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jito-familiek beraien seme-alabak eskolatzeko interesa dut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Esperientzia positibo gutx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Ezinbesteko eragileak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rakasleek gai honen inguruan duten ikuspegia historiaren fruitu 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rakasle eta familien arteko harremanak ezinbestekoak dira aurrera egin ahal izateko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Prestakuntza- eta berrikuntza-proiektuak behar dira eskola-arrakasta eta kultura arteko bizikidetza lortzek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Askotariko baliabideak eta modu desorekatuan banatua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Inguruko gainerako gizarte- eta hezkuntza-bitartekoekin lan egiteko beharr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Errealitate hau eraldatzeko, Berritzeguneen, Ikuskaritzaren, Plangintzaren… ekintza koordinatua behar d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ESKOLATZEAREN HOBETZE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5b5249"/>
                </a:solidFill>
                <a:latin typeface="Times New Roman"/>
              </a:rPr>
              <a:t>BIDEA OZTOPATZEN DUEN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Neurri bereizl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Beraien beharrak gabeziatzat jotz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Minimoak” hartzea helburutz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jitoek ikusezin izaten jarraitz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Neurriak “kuantifikatuz” planifikatzea, egoera aztertuz egin beharrea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Erabakiak hartzea ijitoak kontuan hartu ga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2a3d7a"/>
                </a:solidFill>
                <a:latin typeface="Times New Roman"/>
              </a:rPr>
              <a:t>ESKOLATZEA HOBETZEKO LAGUNGARRI D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kaslearen kultura eta gizarte-egoera ezagutzea zehazk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Familiekin komunikazio-harreman oparoa eta konfiantzazkoa finkatze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rakaskuntza-ikaskuntza prozesuak hobetzea asistentzia eta eskola-arrakasta sustatzek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jito-herria curriculumean ikusarazt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5b5249"/>
                </a:solidFill>
                <a:latin typeface="Times New Roman"/>
              </a:rPr>
              <a:t>Ikasleen harreraz arduratzea, baita Lehen Hezkuntzatik Bigarrenera igarotzeko uneaz e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2:19:01Z</dcterms:created>
  <dc:creator>Jon salaberria</dc:creator>
  <dc:description/>
  <dc:language>en-US</dc:language>
  <cp:lastModifiedBy>Joseba Ossa Altzibar</cp:lastModifiedBy>
  <dcterms:modified xsi:type="dcterms:W3CDTF">2006-10-17T13:59:44Z</dcterms:modified>
  <cp:revision>36</cp:revision>
  <dc:subject/>
  <dc:title>ESCOLARIZACION DEL ALUMNADO GITANO</dc:title>
</cp:coreProperties>
</file>