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B57-B2EF-43C9-A1DA-4E7F6DC8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CDB-C909-45D7-A39E-84D04E3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A65-B896-483C-A592-D6EC621F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029-D054-4D83-86DE-34210E2D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5CE7-3E95-425E-A211-480F156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6E9-592C-4409-9E1F-C3C5490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C9C3-718E-47A8-977B-451FC560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11A6-94D3-491D-9E61-5CFE0CE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40F-9CD0-44F2-8DEB-99A07BD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9DE5-4D38-467C-A96B-8E369F4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4024-0FF1-466F-B8DA-41D2FBF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F5E-A0BD-475C-A4A3-452AAA4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84A4-284A-444F-A0F4-83B05F5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9348-619B-4D48-9618-BCE6292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1F38-92C5-4258-BEBA-B098CB9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F4E-AB99-4338-8F0C-00EB3DD7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389-BBC1-45CB-A8D5-07F52581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087-6FAE-4C42-BE2D-831506E3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46C-3B74-430C-8D2E-9412311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098-DBCF-4A7F-8008-F7CADC1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DEB-A3FD-4FB7-BFB8-51F9F14B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77F-08D5-4A6A-8631-6E76CCB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D01-6D22-4FA6-BE94-B78A435F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3B4-F175-4478-B50E-B1A9474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60D-5FAC-4184-B383-D20B23BC522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6BB-9F46-413B-B277-BA92FEF3DF1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S METODOLOGICAS Y ORGANIZATIV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Mejora de los procesos de enseñanza-aprendizaj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alle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 través de actividades prácticas, se trabajan contenidos de las program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quiere espacios y dotaciones materi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ueden ser muy diversos: radio, prensa, alimentación, mecánica, electricidad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OYECTOS DE INTERVENCION ESPECIFICA (en ES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OSIBILIT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nos profesorado por aul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rogramación interdisciplinar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ctuación conjunta de dos-tres profesores  por a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fuerzo de las tutorías: acción tutorial compartida y tutorías individualiz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Biblioteca tutoriz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RITERIOS PARA ELEGIR ESTRATE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ben fortalecer los aprendizajes instrumentales dentro del aula ordin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tenciar que todo el tiempo se esté aprendiendo al máx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r sentido a lo que se apren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roximar la cultura de casa y la cultura esco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a tutoría cercana favorece el aprendiz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mprescindible la coordinación entre profesorado, familias y otros ag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Grupos interac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grupaciones heterogéneas con tantos adultos como grup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 organizan actividades diferentes, tantas como nº de grupos, para realizar al mismo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os grupos rotan por las diferentes actividades que duran entre 20’ y 1 hor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Grupos interactivo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as actividades se realizan con ayuda entre el alumn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papel de la persona adulta es potenciar las interacciones y la ayuda entre iguales para realizar la tare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alumnado está todo el tiempo aprendiend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otencian el debate, la argumentación, la comunicación interpersonal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os profesores en el au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trolamos mas y mejor lo que sucede en el a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ermite organizar el trabajo en grupos, incluso distintas actividades en el mismo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osibilita la ayuda entre igu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 apoya de forma mas directa al alumnado que mas lo neces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os profesores en el aula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osibilita un mejor seguimiento del trabaj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Importancia de aclarar el rol de cada persona: una dirige y la otra ayu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quiere un tiempo para coordinación y organización de las tar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siones en que predomina la actividad del alumnado (no exposición del profesorad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Grupos cooper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romueven la interacción y la cooperación entre igu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Fomentan altas expectativas y  aportaciones de todos y to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se programa, posibilitan el debate, argumentación, comunicación interpersonal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mpromiso con la consecución de la tarea y con el aprendizaje de 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Actividades por nive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ermiten realizar un mismo aprendizaje con distinto grado de dificult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lanificando así las unidades didácticas, se puede incluir a todo el alumnado en el trabajo esco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mbinable con otras estrateg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oyectos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ueden ser de un área o interdisciplin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yudan al alumnado a organizar  la secuencia de su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osibilitan distintas tareas y actividades: búsqueda de datos, información, reparto de tareas, exposiciones, resolución de conflictos,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21:10:30Z</dcterms:created>
  <dc:creator>ies mungia lauaxeta</dc:creator>
  <dc:description/>
  <dc:language>en-US</dc:language>
  <cp:lastModifiedBy>Bego</cp:lastModifiedBy>
  <dcterms:modified xsi:type="dcterms:W3CDTF">2005-06-30T20:55:28Z</dcterms:modified>
  <cp:revision>25</cp:revision>
  <dc:subject/>
  <dc:title>Grupos interactivos</dc:title>
</cp:coreProperties>
</file>