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E6C-97C9-461E-AE43-5D02731A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6EE-C538-42B1-8337-CA2B358E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425-4A26-4AA5-829F-B1B7A476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958-2A48-4A5C-9725-13E888CC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355C-060E-4BA4-B612-A8E59C73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7CE9-3F83-491B-8F54-1EF3AFA8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8562-8839-417B-B800-8D2E630C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4D6A-B5D8-4C46-B664-AFFEAA80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53E9-5B21-4D25-930C-846862C1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FFBC-3988-488E-ACED-364C1530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749-9231-4742-B77D-3965D28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9DA-146E-4CD8-A583-0E4D3ABD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2926-44C4-461B-8388-A73FF140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7D8E-2642-4843-B4AA-AD07D69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120C-CF0F-41E9-884B-6763784A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20EC-F001-4FF3-A905-07C98D6D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49B1-0969-4992-BF0D-9CBBB9E5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5CD-E35A-4EA5-B637-54B49AF5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5CE-3077-4FD6-BE25-920A6F86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693-7EB6-4478-82F8-A0668D54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6C5-BD2C-4278-8FAF-C50ABDD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951-087A-4EF0-80D6-63E53BC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E07-6AF9-4446-8C8C-4C218E3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EC9-F279-4A24-B7C4-94DC323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F97E-E439-40E2-9B4F-1C5E3318B6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791320"/>
            <a:ext cx="8077320" cy="7617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cc00cc"/>
                </a:solidFill>
                <a:latin typeface="Verdana"/>
              </a:rPr>
              <a:t>               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04000" y="5950080"/>
            <a:ext cx="1447920" cy="493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057400" y="380880"/>
            <a:ext cx="519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LAN DE CONVIVENCIA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5805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s-ES" sz="1200" spc="-1" strike="noStrike">
                <a:solidFill>
                  <a:srgbClr val="40458c"/>
                </a:solidFill>
                <a:latin typeface="Bookman Old Style"/>
              </a:rPr>
              <a:t>Guía para la elaboración del Plan de Convivencia Anual (PCA)</a:t>
            </a:r>
            <a:r>
              <a:rPr b="0" i="1" lang="es-ES" sz="1200" spc="-1" strike="noStrike">
                <a:solidFill>
                  <a:srgbClr val="40458c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26920" y="5877000"/>
            <a:ext cx="57636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8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3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8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845D-533B-4691-8417-D380B420AD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97040" y="1379520"/>
          <a:ext cx="785484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379520"/>
                    <a:ext cx="785484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03280" y="1219320"/>
            <a:ext cx="6481800" cy="7617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PLAN CONVIVENCIA ANUAL : fas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495680"/>
            <a:ext cx="8077320" cy="121932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VIVENCIA POSITIVA: incide en la mejora de las relacion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sonales, de  la forma de afrontar los conflictos,  de la disciplina,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 cultura y de todas las personas que constituyen el centro.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68360" y="1143000"/>
            <a:ext cx="5328000" cy="609480"/>
          </a:xfrm>
          <a:prstGeom prst="rect">
            <a:avLst/>
          </a:prstGeom>
          <a:solidFill>
            <a:srgbClr val="eded4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</a:rPr>
              <a:t>SEGUIMIENTO Y EVALUACIÓ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2276640"/>
            <a:ext cx="7086600" cy="129204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Necesidades y expectativ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Indicadores de logro/objetivo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Proceso: cambios, adaptacio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</a:rPr>
              <a:t>Memoria final: resultados y propuest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15280" y="5086440"/>
            <a:ext cx="132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752480"/>
            <a:ext cx="2514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</a:rPr>
              <a:t>FAS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72240" y="2060640"/>
            <a:ext cx="2471760" cy="1218960"/>
          </a:xfrm>
          <a:prstGeom prst="ellipse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6"/>
                </a:solidFill>
                <a:latin typeface="Verdana"/>
              </a:rPr>
              <a:t>RESULTADO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6"/>
                </a:solidFill>
                <a:latin typeface="Verdana"/>
              </a:rPr>
              <a:t>PROCESO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3645000"/>
            <a:ext cx="8713800" cy="1379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Verdana"/>
              </a:rPr>
              <a:t>. </a:t>
            </a:r>
            <a:r>
              <a:rPr b="1" i="1" lang="en-US" sz="1600" spc="-1" strike="noStrike">
                <a:solidFill>
                  <a:srgbClr val="40458c"/>
                </a:solidFill>
                <a:latin typeface="Verdana"/>
              </a:rPr>
              <a:t>Apoyo en la fase de seguimiento y evaluació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40458c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40458c"/>
                </a:solidFill>
                <a:latin typeface="Verdana"/>
              </a:rPr>
              <a:t>materiales, fases, responsabilidades, compromiso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Verdana"/>
              </a:rPr>
              <a:t>. Formación: asesoría, apoy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Verdana"/>
              </a:rPr>
              <a:t>. Elección del modelo de evaluación y diseño de herramienta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Verdana"/>
              </a:rPr>
              <a:t>. Comunicación, exposición de los datos, dar a conocer el proyecto.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1008400">
            <a:off x="0" y="5084640"/>
            <a:ext cx="2133720" cy="60984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6"/>
                </a:solidFill>
                <a:latin typeface="Verdana"/>
              </a:rPr>
              <a:t>indicador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2000" y="5373720"/>
            <a:ext cx="2421000" cy="576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6"/>
                </a:solidFill>
                <a:latin typeface="Verdana"/>
              </a:rPr>
              <a:t>acuerdo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21322200">
            <a:off x="3201840" y="5022360"/>
            <a:ext cx="3240360" cy="704880"/>
          </a:xfrm>
          <a:prstGeom prst="ellipse">
            <a:avLst/>
          </a:prstGeom>
          <a:solidFill>
            <a:srgbClr val="889df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6"/>
                </a:solidFill>
                <a:latin typeface="Verdana"/>
              </a:rPr>
              <a:t>responsabilidad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21262800">
            <a:off x="5797080" y="5175360"/>
            <a:ext cx="3348000" cy="685800"/>
          </a:xfrm>
          <a:prstGeom prst="ellipse">
            <a:avLst/>
          </a:prstGeom>
          <a:solidFill>
            <a:srgbClr val="8dcbe1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6"/>
                </a:solidFill>
                <a:latin typeface="Verdana"/>
              </a:rPr>
              <a:t>infraestructura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3880" y="25066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1295280"/>
            <a:ext cx="6172200" cy="5335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Verdana"/>
              </a:rPr>
              <a:t>CONSTRUYENDO LA CONVIVENCI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209680"/>
            <a:ext cx="2666880" cy="457200"/>
          </a:xfrm>
          <a:prstGeom prst="rect">
            <a:avLst/>
          </a:prstGeom>
          <a:solidFill>
            <a:srgbClr val="fb302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SENSIBILIZACIÓ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895480"/>
            <a:ext cx="2590920" cy="609840"/>
          </a:xfrm>
          <a:prstGeom prst="rect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DIAGNÓSTIC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3657600"/>
            <a:ext cx="2590920" cy="533520"/>
          </a:xfrm>
          <a:prstGeom prst="rect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PLANIFICACIÓ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4365720"/>
            <a:ext cx="2592360" cy="593640"/>
          </a:xfrm>
          <a:prstGeom prst="rect">
            <a:avLst/>
          </a:prstGeom>
          <a:solidFill>
            <a:srgbClr val="f2ea4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SEGUIMIENTO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Y EVALUACIÓ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1916280"/>
            <a:ext cx="3529080" cy="685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Creencia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Marcos conceptual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Necesidades de intervenció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657600"/>
            <a:ext cx="1752480" cy="7621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Dato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CAUSA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Consecuencia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2276640"/>
            <a:ext cx="573120" cy="9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35053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2743200"/>
            <a:ext cx="2666880" cy="22860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PREVENCIÓ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ámbito persona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ámbito curricula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ámbito relaciona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ámbito de gestió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INTERVENCIÓN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SISTEMÁTIC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estrategia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380988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5084640"/>
            <a:ext cx="5543640" cy="609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OBSERVATORIO de la convivencia/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66"/>
                </a:solidFill>
                <a:latin typeface="Verdana"/>
              </a:rPr>
              <a:t>estrategias/logro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4800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00400" y="1219320"/>
            <a:ext cx="2971800" cy="533160"/>
          </a:xfrm>
          <a:prstGeom prst="rect">
            <a:avLst/>
          </a:prstGeom>
          <a:solidFill>
            <a:srgbClr val="fb302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SENSIBILIZACIÓ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916280"/>
            <a:ext cx="8137440" cy="6094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Creencias/Marcos conceptuales/Necesidades de intervenció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2637000"/>
            <a:ext cx="7812360" cy="7617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Teorías para la justificación de las prácticas del profesorad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Compartiendo creencias y concepto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3581280"/>
            <a:ext cx="7239240" cy="205740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¿Cómo entendemos la convivencia?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¿Cómo entendemos el conflicto?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¿Qué es lo que aceptamos como normal?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¿Qué es lo que consideramos violencia?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¿Cómo afrontar un conflicto?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¿Es conveniente mantener actitudes homogéneas?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¿Hay razones que nos indiquen la necesidad de una intervención?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¿Qué es lo saludable para el alumnado, el profesorado, las familias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  </a:t>
            </a:r>
            <a:r>
              <a:rPr b="1" i="1" lang="es-ES" sz="1400" spc="-1" strike="noStrike">
                <a:solidFill>
                  <a:srgbClr val="660066"/>
                </a:solidFill>
                <a:latin typeface="Verdana"/>
              </a:rPr>
              <a:t>y el PAS?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32720" y="3645000"/>
            <a:ext cx="2232000" cy="1143000"/>
          </a:xfrm>
          <a:prstGeom prst="ellipse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ea48"/>
                </a:solidFill>
                <a:latin typeface="Tahoma"/>
              </a:rPr>
              <a:t>COMPARTIR!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743200" y="1219320"/>
            <a:ext cx="3276720" cy="1008720"/>
          </a:xfrm>
          <a:prstGeom prst="rect">
            <a:avLst/>
          </a:prstGeom>
          <a:solidFill>
            <a:srgbClr val="345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fdbfd"/>
                </a:solidFill>
                <a:latin typeface="Verdana"/>
              </a:rPr>
              <a:t>DIAGNÓSTIC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286000"/>
            <a:ext cx="2133720" cy="220968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3357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Objetiv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3716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Subjetiv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2680" y="27082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RECOGIDA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DE DATO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1752480"/>
            <a:ext cx="914400" cy="914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114800"/>
            <a:ext cx="914400" cy="914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./PA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4191120"/>
            <a:ext cx="914400" cy="914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F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/DIR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4495680"/>
            <a:ext cx="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5334120"/>
            <a:ext cx="2895840" cy="304560"/>
          </a:xfrm>
          <a:prstGeom prst="rect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Verdana"/>
              </a:rPr>
              <a:t>cuestionarios/tiemp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2286000"/>
            <a:ext cx="2664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CAUS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2819520"/>
            <a:ext cx="2438640" cy="1828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 person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 currículu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 interaccio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 organizació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 normas d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vivenci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4724280"/>
            <a:ext cx="213336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ioridades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5257800"/>
            <a:ext cx="1524240" cy="457200"/>
          </a:xfrm>
          <a:prstGeom prst="rect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objetivo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2666880"/>
            <a:ext cx="25714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3276720"/>
            <a:ext cx="2133720" cy="1828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ersona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rupo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señanza-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prendizaj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tr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5229360"/>
            <a:ext cx="1873080" cy="457200"/>
          </a:xfrm>
          <a:prstGeom prst="rect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necesidad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3213000"/>
            <a:ext cx="1368360" cy="21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438280"/>
            <a:ext cx="838080" cy="3353040"/>
          </a:xfrm>
          <a:custGeom>
            <a:avLst/>
            <a:gdLst>
              <a:gd name="textAreaLeft" fmla="*/ 112320 w 838080"/>
              <a:gd name="textAreaRight" fmla="*/ 725760 w 838080"/>
              <a:gd name="textAreaTop" fmla="*/ 637920 h 3353040"/>
              <a:gd name="textAreaBottom" fmla="*/ 240588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21" stAng="-5400000" swAng="5400000"/>
                <a:lnTo>
                  <a:pt x="21600" y="11388"/>
                </a:lnTo>
                <a:arcTo wR="21600" hR="8221" stAng="0" swAng="2457708"/>
                <a:lnTo>
                  <a:pt x="8673" y="20908"/>
                </a:lnTo>
                <a:lnTo>
                  <a:pt x="0" y="18026"/>
                </a:lnTo>
                <a:lnTo>
                  <a:pt x="8673" y="13759"/>
                </a:lnTo>
                <a:lnTo>
                  <a:pt x="8673" y="15750"/>
                </a:lnTo>
                <a:arcTo wR="21600" hR="8221" stAng="2457708" swAng="-2201353"/>
                <a:lnTo>
                  <a:pt x="21196" y="9805"/>
                </a:lnTo>
                <a:arcTo wR="21600" hR="8221" stAng="-256355" swAng="-5143645"/>
                <a:close/>
              </a:path>
              <a:path fill="darkenLess" w="21600" h="21600">
                <a:moveTo>
                  <a:pt x="0" y="0"/>
                </a:moveTo>
                <a:arcTo wR="21600" hR="8221" stAng="-5400000" swAng="5400000"/>
                <a:lnTo>
                  <a:pt x="21600" y="11388"/>
                </a:lnTo>
                <a:arcTo wR="21600" hR="8221" stAng="0" swAng="-256355"/>
                <a:lnTo>
                  <a:pt x="21196" y="9805"/>
                </a:lnTo>
                <a:arcTo wR="21600" hR="8221" stAng="-256355" swAng="-5143645"/>
                <a:close/>
              </a:path>
            </a:pathLst>
          </a:cu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1600200"/>
            <a:ext cx="1828800" cy="9907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fdbfd"/>
                </a:solidFill>
                <a:latin typeface="Tahoma"/>
              </a:rPr>
              <a:t>a mejora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1066680"/>
            <a:ext cx="1905120" cy="1143000"/>
          </a:xfrm>
          <a:prstGeom prst="ellipse">
            <a:avLst/>
          </a:prstGeom>
          <a:solidFill>
            <a:srgbClr val="fb302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fdbfd"/>
                </a:solidFill>
                <a:latin typeface="Tahoma"/>
              </a:rPr>
              <a:t>fortaleza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1295280"/>
            <a:ext cx="8001000" cy="765360"/>
          </a:xfrm>
          <a:prstGeom prst="rect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dbfd"/>
                </a:solidFill>
                <a:latin typeface="Verdana"/>
              </a:rPr>
              <a:t>PLANIFICACIÓN: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dbfd"/>
                </a:solidFill>
                <a:latin typeface="Verdana"/>
              </a:rPr>
              <a:t>transformando las causas en objetivo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895480"/>
            <a:ext cx="1752480" cy="114300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ser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realist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3886200"/>
            <a:ext cx="1905120" cy="9907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arno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4876920"/>
            <a:ext cx="2895480" cy="838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Verdana"/>
              </a:rPr>
              <a:t>crear proceso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5334120"/>
            <a:ext cx="213336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20206"/>
                </a:solidFill>
                <a:latin typeface="Verdana"/>
              </a:rPr>
              <a:t>largo plaz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38480" y="5105520"/>
            <a:ext cx="16765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20206"/>
                </a:solidFill>
                <a:latin typeface="Verdana"/>
              </a:rPr>
              <a:t>priorida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5562720"/>
            <a:ext cx="220968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20206"/>
                </a:solidFill>
                <a:latin typeface="Verdana"/>
              </a:rPr>
              <a:t>corto plaz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38280" y="2666880"/>
            <a:ext cx="3581280" cy="2210040"/>
            <a:chOff x="2438280" y="2666880"/>
            <a:chExt cx="3581280" cy="2210040"/>
          </a:xfrm>
        </p:grpSpPr>
        <p:sp>
          <p:nvSpPr>
            <p:cNvPr id="264" name="Puzzle3"/>
            <p:cNvSpPr/>
            <p:nvPr/>
          </p:nvSpPr>
          <p:spPr>
            <a:xfrm>
              <a:off x="4182480" y="2666880"/>
              <a:ext cx="1407600" cy="1174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Puzzle2"/>
            <p:cNvSpPr/>
            <p:nvPr/>
          </p:nvSpPr>
          <p:spPr>
            <a:xfrm>
              <a:off x="3772800" y="3522240"/>
              <a:ext cx="2246760" cy="10695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6" name="Puzzle4"/>
            <p:cNvSpPr/>
            <p:nvPr/>
          </p:nvSpPr>
          <p:spPr>
            <a:xfrm>
              <a:off x="2903400" y="3509280"/>
              <a:ext cx="1354680" cy="13676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7" name="Puzzle1"/>
            <p:cNvSpPr/>
            <p:nvPr/>
          </p:nvSpPr>
          <p:spPr>
            <a:xfrm>
              <a:off x="2438280" y="3022200"/>
              <a:ext cx="2274840" cy="8150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788000" y="2060640"/>
            <a:ext cx="3797280" cy="115236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todos los aspectos y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personas qu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Verdana"/>
              </a:rPr>
              <a:t>constituyen el centr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572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505320"/>
            <a:ext cx="1905120" cy="60948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oluciones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encontrad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2362320"/>
            <a:ext cx="7543800" cy="327636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1143000"/>
            <a:ext cx="5486400" cy="609480"/>
          </a:xfrm>
          <a:prstGeom prst="rect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fdbfd"/>
                </a:solidFill>
                <a:latin typeface="Verdana"/>
              </a:rPr>
              <a:t>PLANIFICACIÓN (2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58920" y="1844640"/>
            <a:ext cx="63356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Verdana"/>
              </a:rPr>
              <a:t>LISTADO DE TODAS LAS ACCIONES POSIBL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2438280"/>
            <a:ext cx="2971800" cy="24386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2514600"/>
            <a:ext cx="3505320" cy="2362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5013360"/>
            <a:ext cx="5329440" cy="4730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recuperando las “buenas prácticas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3429000"/>
            <a:ext cx="914400" cy="99072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m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0000" y="3505320"/>
            <a:ext cx="2232000" cy="9144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strategia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68360" y="3141720"/>
            <a:ext cx="20574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SALU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505320"/>
            <a:ext cx="21337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CURRÍCULU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3860640"/>
            <a:ext cx="2430360" cy="3812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INTERACCIO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8000" y="4365720"/>
            <a:ext cx="221004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58920" y="2637000"/>
            <a:ext cx="3124080" cy="3045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PREVENCIÓ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4120" y="2590920"/>
            <a:ext cx="2666880" cy="6858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INTERVENCIÓ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SISTEMÁTIC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666880" y="4800600"/>
            <a:ext cx="3657600" cy="914400"/>
          </a:xfrm>
          <a:prstGeom prst="rect">
            <a:avLst/>
          </a:prstGeom>
          <a:solidFill>
            <a:srgbClr val="b977c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2514600"/>
            <a:ext cx="7543800" cy="2133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1219320"/>
            <a:ext cx="5486400" cy="609480"/>
          </a:xfrm>
          <a:prstGeom prst="rect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fdbfd"/>
                </a:solidFill>
                <a:latin typeface="Verdana"/>
              </a:rPr>
              <a:t>PLANIFICACIÓN (3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2819520"/>
            <a:ext cx="2590560" cy="838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que sean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práctic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819520"/>
            <a:ext cx="3581280" cy="838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con indicadores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de evaluació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59280" y="5229360"/>
            <a:ext cx="2952720" cy="38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responsabilidad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4756320"/>
            <a:ext cx="25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6"/>
                </a:solidFill>
                <a:latin typeface="Verdana"/>
              </a:rPr>
              <a:t>cronogram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149720"/>
            <a:ext cx="2286000" cy="1584360"/>
          </a:xfrm>
          <a:prstGeom prst="ellipse">
            <a:avLst/>
          </a:prstGeom>
          <a:solidFill>
            <a:srgbClr val="f2ea4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459f6"/>
                </a:solidFill>
                <a:latin typeface="Verdana"/>
              </a:rPr>
              <a:t>¡¡Tener en cuenta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459f6"/>
                </a:solidFill>
                <a:latin typeface="Verdana"/>
              </a:rPr>
              <a:t>las que ya se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459f6"/>
                </a:solidFill>
                <a:latin typeface="Verdana"/>
              </a:rPr>
              <a:t>están llevando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459f6"/>
                </a:solidFill>
                <a:latin typeface="Verdana"/>
              </a:rPr>
              <a:t>a cabo!!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58920" y="1916280"/>
            <a:ext cx="63356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Verdana"/>
              </a:rPr>
              <a:t>LISTADO DE TODAS LAS ACCIONES POSIBL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3933720"/>
            <a:ext cx="5329440" cy="4730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recuperando las “buenas prácticas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666880" y="1125360"/>
            <a:ext cx="5218200" cy="627120"/>
          </a:xfrm>
          <a:prstGeom prst="rect">
            <a:avLst/>
          </a:prstGeom>
          <a:solidFill>
            <a:srgbClr val="f2ea4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</a:rPr>
              <a:t>SEGUIMIENTO Y EVALUACIÓ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057400"/>
            <a:ext cx="2743200" cy="13716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responsabilidades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y compromiso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personal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de grup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733920"/>
            <a:ext cx="2274840" cy="1752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15280" y="5086440"/>
            <a:ext cx="132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4495680"/>
            <a:ext cx="1728720" cy="83844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conflicto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3716280"/>
            <a:ext cx="18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dificultad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problem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4495680"/>
            <a:ext cx="3024000" cy="381240"/>
          </a:xfrm>
          <a:prstGeom prst="rect">
            <a:avLst/>
          </a:prstGeom>
          <a:solidFill>
            <a:srgbClr val="373c7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orman parte de la vid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4869000"/>
            <a:ext cx="2667240" cy="380880"/>
          </a:xfrm>
          <a:prstGeom prst="rect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ómo afrontarlo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5257800"/>
            <a:ext cx="405288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nvertirlos en oportunidad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1828800"/>
            <a:ext cx="5257800" cy="20574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2438280"/>
            <a:ext cx="4648320" cy="12956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17524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establecer espacios y tiempos para la participació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2492280"/>
            <a:ext cx="2590920" cy="30492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utorí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743200"/>
            <a:ext cx="2362320" cy="304920"/>
          </a:xfrm>
          <a:prstGeom prst="rect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amble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2971800"/>
            <a:ext cx="2438280" cy="380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diación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40360" y="3357720"/>
            <a:ext cx="4319280" cy="3045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Observatorio Convivenci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38080"/>
            <a:ext cx="2743200" cy="1067040"/>
          </a:xfrm>
          <a:prstGeom prst="ellipse">
            <a:avLst/>
          </a:prstGeom>
          <a:solidFill>
            <a:srgbClr val="fa802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</a:rPr>
              <a:t>¡PUBLICIDAD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3962520"/>
            <a:ext cx="3859200" cy="177156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</a:rPr>
              <a:t>seguimiento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Verdana"/>
              </a:rPr>
              <a:t>personalizado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</a:rPr>
              <a:t>en todos los conflictos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</a:rPr>
              <a:t>de convivenci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ea48"/>
                </a:solidFill>
                <a:latin typeface="Verdana"/>
              </a:rPr>
              <a:t>causas /persona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692360" y="1143000"/>
            <a:ext cx="5904000" cy="609480"/>
          </a:xfrm>
          <a:prstGeom prst="rect">
            <a:avLst/>
          </a:prstGeom>
          <a:solidFill>
            <a:srgbClr val="f2ea4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Verdana"/>
              </a:rPr>
              <a:t>SEGUIMIENTO Y EVALUACIÓN (2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8360" y="1844640"/>
            <a:ext cx="4876920" cy="18162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3c79"/>
                </a:solidFill>
                <a:latin typeface="Verdana"/>
              </a:rPr>
              <a:t>Análisis de los procesos d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3c7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73c79"/>
                </a:solidFill>
                <a:latin typeface="Verdana"/>
              </a:rPr>
              <a:t>enseñanza-aprendizaje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éxito para todas las person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prendizaje cooperativ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isrupción: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metodología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estrategia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15280" y="5086440"/>
            <a:ext cx="132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03640" y="2060640"/>
            <a:ext cx="4140360" cy="1981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Currículum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Emocion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ompetencias para la Vid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Habilidades d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omunicació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Valores y educación mora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4038480"/>
            <a:ext cx="4495680" cy="155124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rganización y gestión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jornada de acogid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funcionalidad y gestión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de los espacio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grupos heterogéneo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5029200"/>
            <a:ext cx="3962520" cy="609480"/>
          </a:xfrm>
          <a:prstGeom prst="rect">
            <a:avLst/>
          </a:prstGeom>
          <a:solidFill>
            <a:srgbClr val="3459f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MACIÓ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09:15:55Z</dcterms:created>
  <dc:creator>Zuzenbizi</dc:creator>
  <dc:description/>
  <dc:language>en-US</dc:language>
  <cp:lastModifiedBy>AHOLKULARIA</cp:lastModifiedBy>
  <dcterms:modified xsi:type="dcterms:W3CDTF">2007-10-18T07:52:41Z</dcterms:modified>
  <cp:revision>26</cp:revision>
  <dc:subject/>
  <dc:title>Diapositiva 1</dc:title>
</cp:coreProperties>
</file>