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2BF-6EB6-4D53-9DB1-290DD27F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B93-3E82-4D80-A4CF-9B8857E4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515-D65E-483F-9030-4146E2DF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4F0-FB24-4902-98E7-27756642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90C-F037-4804-95D8-84A3111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B35-27B2-4C5F-B1B7-BD1BC82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827-1EB7-4AE1-8569-8A3DE07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9D4-7F4A-46E0-BA78-195ABA7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195-5751-4A46-B0AD-019115B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96E-9290-4C32-B353-B0C2B0E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3B2-C5D4-4BF9-89B9-D000D326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F57-F645-41D8-8553-CA38691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8C6A-EE54-44F6-BA07-4181DE7B2C89}" type="slidenum">
              <a:rPr b="0" lang="eu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1905120"/>
            <a:ext cx="2895840" cy="2684520"/>
          </a:xfrm>
          <a:prstGeom prst="rect">
            <a:avLst/>
          </a:prstGeom>
          <a:solidFill>
            <a:srgbClr val="0066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76080" y="609480"/>
            <a:ext cx="1675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Qué 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5680" y="1528920"/>
            <a:ext cx="2257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Qué s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3433680"/>
            <a:ext cx="2629800" cy="8254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qué pregu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e te ocur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5600" y="5029200"/>
            <a:ext cx="3128040" cy="1557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Has vivido alg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ituación pareci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En qué te s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lic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5181480"/>
            <a:ext cx="4103640" cy="119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Qué divers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piniones podrán surgi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usa de esta im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971800"/>
            <a:ext cx="2819520" cy="192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Qué conexiones puedes hacer entre esta situación y otras de la vi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5400" y="1452600"/>
            <a:ext cx="221832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cuáles 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s 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ort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76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86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958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955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orroka3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2:02:14Z</dcterms:created>
  <dc:creator>-</dc:creator>
  <dc:description/>
  <dc:language>en-US</dc:language>
  <cp:lastModifiedBy>-</cp:lastModifiedBy>
  <dcterms:modified xsi:type="dcterms:W3CDTF">2006-09-26T09:42:28Z</dcterms:modified>
  <cp:revision>7</cp:revision>
  <dc:subject/>
  <dc:title>Presentación de PowerPoint</dc:title>
</cp:coreProperties>
</file>