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05BA-BC46-4DC7-A371-B2DD39D950F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objetiv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OC trasciende la comisión de convivencia ya que, por  más que se haya insistido en su faceta positiva, se sigue, en muchos casos, entendiendo como disciplinaria, punitiva y sancionadora. El OC se c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poner actividades a toda la Comunidad Educativa que fomenten las relaciones positivas</a:t>
            </a: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laborar en el desarrollo de una cultura del cuidado mutuo, en la que el autocuidado y el cuidado de las demás personas sea una fuente de satisfacción y enriquecimiento mutuo</a:t>
            </a: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coger inquietudes, sugerencias y propuestas (de todos los estamentos) para la mejora de las relaciones, la transformación de los conflictos y el avance en la consecución de una convivencia saludable. Canalizar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)    Promover la colaboración con otras instituciones, organismos y entidades del entorno para el impulso de la convivencia positiva y la cultura de la cooper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8F3-FC4F-491E-BF64-B5353B24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284-4E4F-4AA0-A648-C26F729F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231-D678-4B38-80A7-873DFC20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509-A789-4653-92C1-F8A743B6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B88-AFF1-4747-B807-38FABB9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0BE-E156-4F65-A4BB-2FBF29E7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879-D29C-4112-BC44-D1CDC83A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65B-A35B-4522-8045-BD40CB50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A38-FD99-4031-BFF2-881BDC1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46C-90F0-414F-8982-5B0FFB7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50F-9F68-4935-B33D-6247572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27A-8F44-4E66-AD2F-0AA2056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3906-98E7-4361-868A-8FD22814F949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158920" cy="212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1800" y="5214960"/>
            <a:ext cx="536256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43640" y="5456160"/>
            <a:ext cx="2449440" cy="114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1484280"/>
            <a:ext cx="4249800" cy="94716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43570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cc"/>
                </a:solidFill>
                <a:latin typeface="Berlin Sans FB"/>
              </a:rPr>
              <a:t> </a:t>
            </a:r>
            <a:r>
              <a:rPr b="1" lang="es-ES" sz="2800" spc="-1" strike="noStrike">
                <a:solidFill>
                  <a:srgbClr val="cc00cc"/>
                </a:solidFill>
                <a:latin typeface="Berlin Sans FB"/>
              </a:rPr>
              <a:t>OBSERVATORIO DE CONVIV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429000"/>
            <a:ext cx="4465440" cy="76428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cc"/>
                </a:solidFill>
                <a:latin typeface="Berlin Sans FB"/>
              </a:rPr>
              <a:t> </a:t>
            </a:r>
            <a:r>
              <a:rPr b="1" i="1" lang="es-ES" sz="4400" spc="-1" strike="noStrike">
                <a:solidFill>
                  <a:srgbClr val="cc00cc"/>
                </a:solidFill>
                <a:latin typeface="Berlin Sans FB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 rot="20821200">
            <a:off x="1115640" y="1699920"/>
            <a:ext cx="606600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¡MUCHAS GRACIAS!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ESKERRIK ASKO!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53625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21345600">
            <a:off x="2699640" y="907560"/>
            <a:ext cx="4537080" cy="936720"/>
          </a:xfrm>
          <a:prstGeom prst="rect">
            <a:avLst/>
          </a:prstGeom>
          <a:solidFill>
            <a:srgbClr val="71f71f"/>
          </a:solidFill>
          <a:ln w="9360">
            <a:solidFill>
              <a:srgbClr val="008000"/>
            </a:solidFill>
            <a:miter/>
          </a:ln>
          <a:effectLst>
            <a:outerShdw dist="134955" dir="8327119" blurRad="0" rotWithShape="0">
              <a:srgbClr val="d1524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392400">
            <a:off x="1419120" y="2274840"/>
            <a:ext cx="7920000" cy="4753080"/>
          </a:xfrm>
          <a:prstGeom prst="rect">
            <a:avLst/>
          </a:prstGeom>
          <a:solidFill>
            <a:srgbClr val="e6f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Arial"/>
              </a:rPr>
              <a:t>Compartir profundamente cualquier empeño con otra persona, compartir el gozo, ya sea físico, emocional, psicológico o intelectual, tiende entre quienes lo comparten un puente que puede ser la base para entender mejor aquello que no se comparte y disminuir el miedo a la diferencia</a:t>
            </a:r>
            <a:br>
              <a:rPr sz="3200"/>
            </a:b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Audre Lorde, </a:t>
            </a:r>
            <a:r>
              <a:rPr b="1" i="1" lang="en-GB" sz="2000" spc="-1" strike="noStrike">
                <a:solidFill>
                  <a:srgbClr val="008000"/>
                </a:solidFill>
                <a:latin typeface="Verdana"/>
              </a:rPr>
              <a:t>La hermana, la extranjera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OBSERVATORIO DE CONVIVENCIA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180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204776" dir="1783193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Arial"/>
              </a:rPr>
              <a:t>Es un órgano creado para la gestión de la convivencia en el centro</a:t>
            </a: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Finalidad: </a:t>
            </a: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promover el establecimiento de relaciones positivas y la construcción una convivencia saludable</a:t>
            </a:r>
            <a:r>
              <a:rPr b="1" i="1" lang="eu-ES" sz="2800" spc="-1" strike="noStrike">
                <a:solidFill>
                  <a:srgbClr val="80008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Objetivo: </a:t>
            </a: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que todas las personas se sientan valoradas, escuchadas, partícipes y responsables en la toma de decisiones y parte activa de la vida del centro.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OBSERVATORIO DE CONVIVENCIA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920000" cy="28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90512" dir="2216091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Porqué: El OC es un nuevo fo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800080"/>
                </a:solidFill>
                <a:latin typeface="Arial"/>
              </a:rPr>
              <a:t>Se crea </a:t>
            </a:r>
            <a:r>
              <a:rPr b="1" lang="es-ES_tradnl" sz="2800" spc="-1" strike="noStrike">
                <a:solidFill>
                  <a:srgbClr val="800080"/>
                </a:solidFill>
                <a:latin typeface="Arial"/>
              </a:rPr>
              <a:t>para promover prácticas democráticas que eliminen todos los esquemas de dominio-sumisión y fomenten el desarrollo de relaciones igualitar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s-ES" sz="4400" spc="-1" strike="noStrike">
                <a:solidFill>
                  <a:srgbClr val="008000"/>
                </a:solidFill>
                <a:latin typeface="Arial"/>
              </a:rPr>
              <a:t>OC – FUNCION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233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48236" dir="1859257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Impulsar la elaboración y puesta en marcha del Plan de Convivencia y su seguimiento 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Garantizar la participación activa de todos los estamentos, especialmente la del alumnado</a:t>
            </a:r>
            <a:r>
              <a:rPr b="0" lang="eu-ES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Potenciar el sentido de pertenencia de todos los estamentos, especialmente el de las alumnas y los alumnos</a:t>
            </a:r>
            <a:r>
              <a:rPr b="0" lang="eu-ES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Velar por la igualdad de oportunidades y de trato en todos los procesos y ámbitos de re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Proponer actividades a toda la Comunidad Educativa que fomenten las relaciones 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0040" cy="1413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OC – FUNCIONE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279440"/>
            <a:ext cx="83534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71040" dir="252084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0" indent="-343080">
              <a:buClr>
                <a:srgbClr val="800080"/>
              </a:buClr>
              <a:buFont typeface="Arial"/>
              <a:buAutoNum type="alphaLcParenR" startAt="6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Colaborar en el desarrollo de una cultura del cuidado mutuo, en la que el autocuidado y el cuidado de las demás personas sea una fuente de satisfacción y enriquecimiento mutuo</a:t>
            </a:r>
            <a:r>
              <a:rPr b="0" lang="eu-ES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343080">
              <a:buClr>
                <a:srgbClr val="800080"/>
              </a:buClr>
              <a:buFont typeface="Arial"/>
              <a:buAutoNum type="alphaLcParenR" startAt="6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Analizar la normativa de convivencia del centro, hacer un diagnóstico de la misma e implementar procesos de mejora</a:t>
            </a:r>
            <a:r>
              <a:rPr b="0" lang="eu-ES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343080">
              <a:buClr>
                <a:srgbClr val="800080"/>
              </a:buClr>
              <a:buFont typeface="Arial"/>
              <a:buAutoNum type="alphaLcParenR" startAt="6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Recoger inquietudes, sugerencias y propuestas (de todos los estamentos) para la mejora de las relaciones, la transformación de los conflictos y el avance en la consecución de una convivencia saludable. Canalizar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343080">
              <a:buClr>
                <a:srgbClr val="800080"/>
              </a:buClr>
              <a:buFont typeface="Arial"/>
              <a:buAutoNum type="alphaLcParenR" startAt="6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Proponer protocolos de actuación (canalización y gestión) ante las necesidades y conflictos de la vida cotid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OC – FUNCIONE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83017" dir="2021404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Detectar posibles casos de violencia y maltrato entre iguales y garantizar la inmediata puesta en práctica de las medidas acor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Recabar información sobre el desarrollo de la convivencia en otros ámbitos y las iniciativas y recursos disponibles en el entorno.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Arial"/>
              </a:rPr>
              <a:t>Promover la colaboración con otras instituciones, organismos y entidades del entorno para el impulso de la convivencia positiva y la cultura de la coop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laborar el plan de trabajo del propio observatorio, así como realizar una evaluación y memoria 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8000"/>
                </a:solidFill>
                <a:latin typeface="Arial"/>
              </a:rPr>
              <a:t>OC – COMPONEN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596000" cy="3024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fatura de Estudios y/o alguien del Equipo Dir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 profesora o profes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representantes del alum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 representante del PAS, personal de comedor y autobú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 madre, padre o responsable leg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 persona del departamento de orientación y, si lo hubiera, del departamento de extraesc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 representante de los organismos y entidades del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013360"/>
            <a:ext cx="8353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800080"/>
                </a:solidFill>
                <a:latin typeface="Arial"/>
              </a:rPr>
              <a:t>Nota: </a:t>
            </a:r>
            <a:r>
              <a:rPr b="0" i="1" lang="es-ES_tradnl" sz="1800" spc="-1" strike="noStrike">
                <a:solidFill>
                  <a:srgbClr val="cc00cc"/>
                </a:solidFill>
                <a:latin typeface="Arial"/>
              </a:rPr>
              <a:t>se tendrá en cuenta la representación de todos los estamentos de la comunidad educativa y se velará por la paridad entre mujeres y hombres, o, en su caso, por la proporcionalidad respecto al número de mujeres y hombres en el colectivo representad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OC – FUNCIONAMIENTO</a:t>
            </a:r>
            <a:r>
              <a:rPr b="1" lang="es-E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136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determinará el propio observatorio tomando como referencia los objetivos, metas y tareas que se proponga, los recursos con los que cuente y el número de componentes del que se d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2545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3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21347400">
            <a:off x="755640" y="3716280"/>
            <a:ext cx="8066160" cy="192276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Un mínimo de reuniones plenarias para el desempeño de sus funciones podría ser de 5: al inicio del curso (elaboración y difusión del PCA), una a la finalización de cada trimestre (seguimiento y evaluación del PCA) y otra final (evaluación y  memor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0:44:08Z</dcterms:created>
  <dc:creator>PREMIA</dc:creator>
  <dc:description/>
  <dc:language>en-US</dc:language>
  <cp:lastModifiedBy>Zuzenbizi</cp:lastModifiedBy>
  <dcterms:modified xsi:type="dcterms:W3CDTF">2007-06-22T12:16:27Z</dcterms:modified>
  <cp:revision>99</cp:revision>
  <dc:subject/>
  <dc:title>Diapositiva 1</dc:title>
</cp:coreProperties>
</file>