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5041-BCA6-42D9-9F8E-8D990FB3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7EE-9C94-4B4F-ACCF-C1C34694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B4D3-8281-4FDE-8F69-56F7A25D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43D-3410-4FBE-91E6-5791E52C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0C8E-785B-4207-A6F8-8EB5AE58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70C0-9014-4215-B6ED-5797FEC6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2BFC-AEE3-43C8-9125-BFD311C5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0DC3-80C6-403A-A40D-13FED082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46C2-B30C-4B8C-A1F0-07FC6F73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3053-4F29-4019-90BB-E0639DE6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5D2A-71FC-4375-9780-C8D4A616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3EE-EE83-4D01-9DF5-688BCAFA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CC3C-E849-4468-85F0-316248E8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BA13-03D3-413C-9EA2-93BCC2F1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7690-E98D-40BA-8867-09C181D4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64E8-239E-44BB-A970-8A7789B7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BF25-17E7-4F2C-87B0-3A49EA78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C584-738E-4297-BC6D-850A8A9A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E83B-57EE-4F8C-AC9C-999A42E9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8A7-2FF6-4041-A310-95DB1877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223-EC57-4983-AB30-875B692C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84B2-54F0-44D0-83F7-E1E4F4FC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4F45-5424-40EC-B9A1-F772914B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C3A9-C2D0-4753-8BB5-0232177F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u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615A-F07D-48D9-A383-16912C36D571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5791320"/>
            <a:ext cx="8076960" cy="7617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993366"/>
                </a:solidFill>
                <a:latin typeface="Comic Sans MS"/>
                <a:ea typeface="Times New Roman"/>
              </a:rPr>
              <a:t>       </a:t>
            </a:r>
            <a:r>
              <a:rPr b="1" lang="es-ES" sz="1000" spc="-1" strike="noStrike">
                <a:solidFill>
                  <a:srgbClr val="993366"/>
                </a:solidFill>
                <a:latin typeface="Comic Sans MS"/>
                <a:ea typeface="Times New Roman"/>
              </a:rPr>
              <a:t>b  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993366"/>
                </a:solidFill>
                <a:latin typeface="Comic Sans MS"/>
                <a:ea typeface="Times New Roman"/>
              </a:rPr>
              <a:t> </a:t>
            </a:r>
            <a:r>
              <a:rPr b="1" i="1" lang="es-ES" sz="1200" spc="-1" strike="noStrike">
                <a:solidFill>
                  <a:srgbClr val="cc00cc"/>
                </a:solidFill>
                <a:latin typeface="Bookman Old Style"/>
              </a:rPr>
              <a:t>Urteko Elkarbizitza Plana eratzeko Gida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cc00cc"/>
                </a:solidFill>
                <a:latin typeface="Bookman Old Style"/>
              </a:rPr>
              <a:t>(UEP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000" spc="-1" strike="noStrike">
                <a:solidFill>
                  <a:srgbClr val="993366"/>
                </a:solidFill>
                <a:latin typeface="Bookman Old Style"/>
                <a:ea typeface="Times New Roman"/>
              </a:rPr>
              <a:t> 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877080" y="5950080"/>
            <a:ext cx="1447920" cy="493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2057400" y="380880"/>
            <a:ext cx="519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URTEKO BIZIKIDETZA PLANA</a:t>
            </a:r>
            <a:endParaRPr b="0" lang="en-US" sz="24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971640" y="5877000"/>
            <a:ext cx="647640" cy="63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7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7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u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C41F-F8EC-4231-A9B1-DD86329E77A9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838080" y="1371600"/>
          <a:ext cx="7677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677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332000" y="1125360"/>
            <a:ext cx="6624720" cy="7621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Verdana"/>
              </a:rPr>
              <a:t>URTEKO ELKARBIZITZA PLANA: fase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4495680"/>
            <a:ext cx="8077320" cy="121932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ELKARBIZITZA POSITIBOA: personen arteko harremanetan, diziplinan,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gatazkei aurre egiteko moduan, ikastetxearen kulturan eta eragile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guztiengan eragina izango duen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362320" y="1143000"/>
            <a:ext cx="4267080" cy="609480"/>
          </a:xfrm>
          <a:prstGeom prst="rect">
            <a:avLst/>
          </a:prstGeom>
          <a:solidFill>
            <a:srgbClr val="f2ea4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Verdana"/>
              </a:rPr>
              <a:t>EBALUAZIO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2205000"/>
            <a:ext cx="7230960" cy="122400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Verdana"/>
              </a:rPr>
              <a:t>Beharrak eta espektatib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Verdana"/>
              </a:rPr>
              <a:t>Helburuen/lorpenen adierazle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Verdana"/>
              </a:rPr>
              <a:t>Prozesua: aldaketak, egokitzapen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Verdana"/>
              </a:rPr>
              <a:t>Azkeneko memoria: emaitzak eta proposamen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15280" y="5086440"/>
            <a:ext cx="132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1752480"/>
            <a:ext cx="2514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Verdana"/>
              </a:rPr>
              <a:t>FASE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16720" y="1773360"/>
            <a:ext cx="2362320" cy="1218960"/>
          </a:xfrm>
          <a:prstGeom prst="ellipse">
            <a:avLst/>
          </a:prstGeom>
          <a:solidFill>
            <a:srgbClr val="b977c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20206"/>
                </a:solidFill>
                <a:latin typeface="Verdana"/>
              </a:rPr>
              <a:t>EMAITZAK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20206"/>
                </a:solidFill>
                <a:latin typeface="Verdana"/>
              </a:rPr>
              <a:t>PROZESU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3573360"/>
            <a:ext cx="8664480" cy="1379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40458c"/>
                </a:solidFill>
                <a:latin typeface="Verdana"/>
              </a:rPr>
              <a:t>Inplementazio fasean lagundu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i="1" lang="es-ES" sz="1800" spc="-1" strike="noStrike">
                <a:solidFill>
                  <a:srgbClr val="40458c"/>
                </a:solidFill>
                <a:latin typeface="Verdana"/>
              </a:rPr>
              <a:t>	</a:t>
            </a:r>
            <a:r>
              <a:rPr b="1" i="1" lang="es-ES" sz="1800" spc="-1" strike="noStrike">
                <a:solidFill>
                  <a:srgbClr val="40458c"/>
                </a:solidFill>
                <a:latin typeface="Verdana"/>
              </a:rPr>
              <a:t>materialak, faseak, ardurak, konpromezuak, ardura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40458c"/>
                </a:solidFill>
                <a:latin typeface="Verdana"/>
              </a:rPr>
              <a:t>Prestakuntza: aholkularitza, laguntz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40458c"/>
                </a:solidFill>
                <a:latin typeface="Verdana"/>
              </a:rPr>
              <a:t>Ebaluazio eredua aukeratu eta tresnak diseinatu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40458c"/>
                </a:solidFill>
                <a:latin typeface="Verdana"/>
              </a:rPr>
              <a:t>Komunikazioa, datuen publizitatea, proiektuaren berri eman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5029200"/>
            <a:ext cx="2133720" cy="609480"/>
          </a:xfrm>
          <a:prstGeom prst="ellipse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20206"/>
                </a:solidFill>
                <a:latin typeface="Verdana"/>
              </a:rPr>
              <a:t>adierazle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0" y="5334120"/>
            <a:ext cx="2133720" cy="60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20206"/>
                </a:solidFill>
                <a:latin typeface="Verdana"/>
              </a:rPr>
              <a:t>akordio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5029200"/>
            <a:ext cx="1981440" cy="609480"/>
          </a:xfrm>
          <a:prstGeom prst="ellipse">
            <a:avLst/>
          </a:prstGeom>
          <a:solidFill>
            <a:srgbClr val="889df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20206"/>
                </a:solidFill>
                <a:latin typeface="Verdana"/>
              </a:rPr>
              <a:t>ardur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24480" y="5181480"/>
            <a:ext cx="2514600" cy="685800"/>
          </a:xfrm>
          <a:prstGeom prst="ellipse">
            <a:avLst/>
          </a:prstGeom>
          <a:solidFill>
            <a:srgbClr val="8dcbe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20206"/>
                </a:solidFill>
                <a:latin typeface="Verdana"/>
              </a:rPr>
              <a:t>azpiegitur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523880" y="25066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1295280"/>
            <a:ext cx="6172200" cy="53352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Verdana"/>
              </a:rPr>
              <a:t>ELKARBIZITZA ERAIKITZEN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209680"/>
            <a:ext cx="2666880" cy="457200"/>
          </a:xfrm>
          <a:prstGeom prst="rect">
            <a:avLst/>
          </a:prstGeom>
          <a:solidFill>
            <a:srgbClr val="fb302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</a:rPr>
              <a:t>SENTSIBILIZAZIO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895480"/>
            <a:ext cx="2590920" cy="609840"/>
          </a:xfrm>
          <a:prstGeom prst="rect">
            <a:avLst/>
          </a:prstGeom>
          <a:solidFill>
            <a:srgbClr val="3459f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</a:rPr>
              <a:t>DIAGNOSTIKO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657600"/>
            <a:ext cx="2590920" cy="533520"/>
          </a:xfrm>
          <a:prstGeom prst="rect">
            <a:avLst/>
          </a:prstGeom>
          <a:solidFill>
            <a:srgbClr val="fa8024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</a:rPr>
              <a:t>PLANIFIKAZIO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4419720"/>
            <a:ext cx="2666880" cy="380880"/>
          </a:xfrm>
          <a:prstGeom prst="rect">
            <a:avLst/>
          </a:prstGeom>
          <a:solidFill>
            <a:srgbClr val="f2ea4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</a:rPr>
              <a:t>INPLEMENTAZIO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1981080"/>
            <a:ext cx="2666880" cy="6858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Sinesmena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Kontzeptu markoa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Esku-hartze beharra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3657600"/>
            <a:ext cx="1752480" cy="8510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Datua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</a:rPr>
              <a:t>KAUSA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Ondorioa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19520" y="2286000"/>
            <a:ext cx="3808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35053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4120" y="2743200"/>
            <a:ext cx="2666880" cy="22860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PREBENTZIO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norberaren arlo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arlo curricularr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harremanen arlo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kudeaketa arlo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ESKU-HARTZE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SISTEMATIKO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prozedura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estrategia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3809880"/>
            <a:ext cx="457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5029200"/>
            <a:ext cx="4392720" cy="6094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BIZIKIDATZA-BEHATOKIA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estrategiak/lorpena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4800600"/>
            <a:ext cx="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00400" y="1219320"/>
            <a:ext cx="2971800" cy="533160"/>
          </a:xfrm>
          <a:prstGeom prst="rect">
            <a:avLst/>
          </a:prstGeom>
          <a:solidFill>
            <a:srgbClr val="fb302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Verdana"/>
              </a:rPr>
              <a:t>SENTSIBILIZAZIO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1905120"/>
            <a:ext cx="7391520" cy="60948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</a:rPr>
              <a:t>Sinesmenak/Kontzeptu markoak/Esku-hartze beharra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2666880"/>
            <a:ext cx="6172200" cy="7621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</a:rPr>
              <a:t>Irakasleen praktikak justifikatzeko teoria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</a:rPr>
              <a:t>Sinesmenak eta kontzeptuak konpartitze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3581280"/>
            <a:ext cx="7239240" cy="205740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660066"/>
                </a:solidFill>
                <a:latin typeface="Verdana"/>
              </a:rPr>
              <a:t>Nola ulertzen dugu elkarbizitza?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660066"/>
                </a:solidFill>
                <a:latin typeface="Verdana"/>
              </a:rPr>
              <a:t>Nola ulertzen dugu gatazka?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660066"/>
                </a:solidFill>
                <a:latin typeface="Verdana"/>
              </a:rPr>
              <a:t>Zer dago baimenduta?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660066"/>
                </a:solidFill>
                <a:latin typeface="Verdana"/>
              </a:rPr>
              <a:t>Zer dago debekatua?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660066"/>
                </a:solidFill>
                <a:latin typeface="Verdana"/>
              </a:rPr>
              <a:t>Nola egin aurre gatazka bati?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660066"/>
                </a:solidFill>
                <a:latin typeface="Verdana"/>
              </a:rPr>
              <a:t>Jokabide homogeneorik izatea komeni da?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660066"/>
                </a:solidFill>
                <a:latin typeface="Verdana"/>
              </a:rPr>
              <a:t>Esku-hartzearen beharraren zergatirik al dago?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660066"/>
                </a:solidFill>
                <a:latin typeface="Verdana"/>
              </a:rPr>
              <a:t>Zertan izan daiteke onuragarria ikasle, Irakasle eta ikastetxerako?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48520" y="3733920"/>
            <a:ext cx="2666880" cy="1143000"/>
          </a:xfrm>
          <a:prstGeom prst="ellipse">
            <a:avLst/>
          </a:prstGeom>
          <a:solidFill>
            <a:srgbClr val="3459f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ea48"/>
                </a:solidFill>
                <a:latin typeface="Tahoma"/>
              </a:rPr>
              <a:t>JARRI MAHAI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ea48"/>
                </a:solidFill>
                <a:latin typeface="Tahoma"/>
              </a:rPr>
              <a:t>GAINEAN!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743200" y="1219320"/>
            <a:ext cx="3276720" cy="1008720"/>
          </a:xfrm>
          <a:prstGeom prst="rect">
            <a:avLst/>
          </a:prstGeom>
          <a:solidFill>
            <a:srgbClr val="3459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fdbfd"/>
                </a:solidFill>
                <a:latin typeface="Verdana"/>
              </a:rPr>
              <a:t>DIAGNOSTIKO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286000"/>
            <a:ext cx="2133720" cy="2209680"/>
          </a:xfrm>
          <a:prstGeom prst="triangle">
            <a:avLst>
              <a:gd name="adj" fmla="val 50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</a:rPr>
              <a:t>Objektibo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3733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</a:rPr>
              <a:t>Subjektibo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3000" y="2819520"/>
            <a:ext cx="19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DATU BILKET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1752480"/>
            <a:ext cx="914400" cy="9144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4114800"/>
            <a:ext cx="914400" cy="9144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F/AZ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09680" y="4191120"/>
            <a:ext cx="914400" cy="9144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RK/Z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4495680"/>
            <a:ext cx="0" cy="762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5334120"/>
            <a:ext cx="2895840" cy="304560"/>
          </a:xfrm>
          <a:prstGeom prst="rect">
            <a:avLst/>
          </a:prstGeom>
          <a:solidFill>
            <a:srgbClr val="b977c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</a:rPr>
              <a:t>galdesortak/denbo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2286000"/>
            <a:ext cx="3124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ZERGATI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2819520"/>
            <a:ext cx="2438640" cy="18288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ertson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urriculum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terakzio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ntolakuntz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iziplina sistem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4724280"/>
            <a:ext cx="213336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ehentasunak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5257800"/>
            <a:ext cx="1524240" cy="457200"/>
          </a:xfrm>
          <a:prstGeom prst="rect">
            <a:avLst/>
          </a:prstGeom>
          <a:solidFill>
            <a:srgbClr val="b977c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Verdana"/>
              </a:rPr>
              <a:t>helburu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2666880"/>
            <a:ext cx="2438280" cy="533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ONDORIO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2133720" cy="1828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ertson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Talde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kaskuntza/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rakaskuntz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kastetxe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81680" y="5257800"/>
            <a:ext cx="1447920" cy="457200"/>
          </a:xfrm>
          <a:prstGeom prst="rect">
            <a:avLst/>
          </a:prstGeom>
          <a:solidFill>
            <a:srgbClr val="b977c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Verdana"/>
              </a:rPr>
              <a:t>beharr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81080" y="3124080"/>
            <a:ext cx="1447920" cy="30492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459f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86400" y="2438280"/>
            <a:ext cx="838080" cy="3353040"/>
          </a:xfrm>
          <a:custGeom>
            <a:avLst/>
            <a:gdLst>
              <a:gd name="textAreaLeft" fmla="*/ 112320 w 838080"/>
              <a:gd name="textAreaRight" fmla="*/ 725760 w 838080"/>
              <a:gd name="textAreaTop" fmla="*/ 637920 h 3353040"/>
              <a:gd name="textAreaBottom" fmla="*/ 240588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21" stAng="-5400000" swAng="5400000"/>
                <a:lnTo>
                  <a:pt x="21600" y="11388"/>
                </a:lnTo>
                <a:arcTo wR="21600" hR="8221" stAng="0" swAng="2457708"/>
                <a:lnTo>
                  <a:pt x="8673" y="20908"/>
                </a:lnTo>
                <a:lnTo>
                  <a:pt x="0" y="18026"/>
                </a:lnTo>
                <a:lnTo>
                  <a:pt x="8673" y="13759"/>
                </a:lnTo>
                <a:lnTo>
                  <a:pt x="8673" y="15750"/>
                </a:lnTo>
                <a:arcTo wR="21600" hR="8221" stAng="2457708" swAng="-2201353"/>
                <a:lnTo>
                  <a:pt x="21196" y="9805"/>
                </a:lnTo>
                <a:arcTo wR="21600" hR="8221" stAng="-256355" swAng="-5143645"/>
                <a:close/>
              </a:path>
              <a:path fill="darkenLess" w="21600" h="21600">
                <a:moveTo>
                  <a:pt x="0" y="0"/>
                </a:moveTo>
                <a:arcTo wR="21600" hR="8221" stAng="-5400000" swAng="5400000"/>
                <a:lnTo>
                  <a:pt x="21600" y="11388"/>
                </a:lnTo>
                <a:arcTo wR="21600" hR="8221" stAng="0" swAng="-256355"/>
                <a:lnTo>
                  <a:pt x="21196" y="9805"/>
                </a:lnTo>
                <a:arcTo wR="21600" hR="8221" stAng="-256355" swAng="-5143645"/>
                <a:close/>
              </a:path>
            </a:pathLst>
          </a:custGeom>
          <a:solidFill>
            <a:srgbClr val="3459f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4320" y="1600200"/>
            <a:ext cx="1828800" cy="99072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fdbfd"/>
                </a:solidFill>
                <a:latin typeface="Tahoma"/>
              </a:rPr>
              <a:t>ahulezi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1066680"/>
            <a:ext cx="1905120" cy="1143000"/>
          </a:xfrm>
          <a:prstGeom prst="ellipse">
            <a:avLst/>
          </a:prstGeom>
          <a:solidFill>
            <a:srgbClr val="fb302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fdbfd"/>
                </a:solidFill>
                <a:latin typeface="Tahoma"/>
              </a:rPr>
              <a:t>sendotasun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1295280"/>
            <a:ext cx="8001000" cy="533520"/>
          </a:xfrm>
          <a:prstGeom prst="rect">
            <a:avLst/>
          </a:prstGeom>
          <a:solidFill>
            <a:srgbClr val="fa8024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fdbfd"/>
                </a:solidFill>
                <a:latin typeface="Verdana"/>
              </a:rPr>
              <a:t>PLANIFIKAZIOA: zergatiak helburutzat hartu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2895480"/>
            <a:ext cx="1752480" cy="1143000"/>
          </a:xfrm>
          <a:prstGeom prst="ellipse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errealist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iza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5880" y="3886200"/>
            <a:ext cx="1905120" cy="99072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enbor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ema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4876920"/>
            <a:ext cx="2895480" cy="8380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Verdana"/>
              </a:rPr>
              <a:t>prozesuak sortu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7120" y="5334120"/>
            <a:ext cx="2133360" cy="380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20206"/>
                </a:solidFill>
                <a:latin typeface="Verdana"/>
              </a:rPr>
              <a:t>epe luzerak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5105520"/>
            <a:ext cx="16765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20206"/>
                </a:solidFill>
                <a:latin typeface="Verdana"/>
              </a:rPr>
              <a:t>premiazko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5562720"/>
            <a:ext cx="2209680" cy="380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20206"/>
                </a:solidFill>
                <a:latin typeface="Verdana"/>
              </a:rPr>
              <a:t>epe laburrea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438280" y="2666880"/>
            <a:ext cx="3581280" cy="2210040"/>
            <a:chOff x="2438280" y="2666880"/>
            <a:chExt cx="3581280" cy="2210040"/>
          </a:xfrm>
        </p:grpSpPr>
        <p:sp>
          <p:nvSpPr>
            <p:cNvPr id="263" name="Puzzle3"/>
            <p:cNvSpPr/>
            <p:nvPr/>
          </p:nvSpPr>
          <p:spPr>
            <a:xfrm>
              <a:off x="4182480" y="2666880"/>
              <a:ext cx="1407600" cy="11743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Puzzle2"/>
            <p:cNvSpPr/>
            <p:nvPr/>
          </p:nvSpPr>
          <p:spPr>
            <a:xfrm>
              <a:off x="3772800" y="3522240"/>
              <a:ext cx="2246760" cy="10695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Puzzle4"/>
            <p:cNvSpPr/>
            <p:nvPr/>
          </p:nvSpPr>
          <p:spPr>
            <a:xfrm>
              <a:off x="2903400" y="3509280"/>
              <a:ext cx="1354680" cy="136764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Puzzle1"/>
            <p:cNvSpPr/>
            <p:nvPr/>
          </p:nvSpPr>
          <p:spPr>
            <a:xfrm>
              <a:off x="2438280" y="3022200"/>
              <a:ext cx="2274840" cy="81504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4724280" y="1905120"/>
            <a:ext cx="3581640" cy="9144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eremu eta eragil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guztien adierazpen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4000" y="549360"/>
            <a:ext cx="533160" cy="838080"/>
          </a:xfrm>
          <a:custGeom>
            <a:avLst/>
            <a:gdLst>
              <a:gd name="textAreaLeft" fmla="*/ 71280 w 533160"/>
              <a:gd name="textAreaRight" fmla="*/ 461880 w 53316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459f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52680" y="3505320"/>
            <a:ext cx="1905120" cy="60948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Verdana"/>
              </a:rPr>
              <a:t>aurkitutako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Verdana"/>
              </a:rPr>
              <a:t>irtenbide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838080" y="2362320"/>
            <a:ext cx="7543800" cy="327636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1143000"/>
            <a:ext cx="5486400" cy="609480"/>
          </a:xfrm>
          <a:prstGeom prst="rect">
            <a:avLst/>
          </a:prstGeom>
          <a:solidFill>
            <a:srgbClr val="fa8024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fdbfd"/>
                </a:solidFill>
                <a:latin typeface="Verdana"/>
              </a:rPr>
              <a:t>PLANIFIKAZIOA (2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1828800"/>
            <a:ext cx="51814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ekintza posible guztiak zerrendatu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81480" y="2438280"/>
            <a:ext cx="2971800" cy="24386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66680" y="2514600"/>
            <a:ext cx="3505320" cy="2362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0" y="5029200"/>
            <a:ext cx="47242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 “</a:t>
            </a: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praktika onak” berreskuratze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3429000"/>
            <a:ext cx="914400" cy="99072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giro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91320" y="3505320"/>
            <a:ext cx="1752480" cy="91440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estrategia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prozedura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3124080"/>
            <a:ext cx="20574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OSASUN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3505320"/>
            <a:ext cx="21337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CURRICULUM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0" y="3886200"/>
            <a:ext cx="2209680" cy="380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INTERAKZIO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57400" y="4343400"/>
            <a:ext cx="2209680" cy="380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KUDEAKET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2590920"/>
            <a:ext cx="3124440" cy="3045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Verdana"/>
              </a:rPr>
              <a:t>PREBENTZIO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2590920"/>
            <a:ext cx="2666880" cy="68580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Verdana"/>
              </a:rPr>
              <a:t>ESKU-HARTZ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Verdana"/>
              </a:rPr>
              <a:t>SISTEMATIKO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666880" y="4800600"/>
            <a:ext cx="3657600" cy="914400"/>
          </a:xfrm>
          <a:prstGeom prst="rect">
            <a:avLst/>
          </a:prstGeom>
          <a:solidFill>
            <a:srgbClr val="b977c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2514600"/>
            <a:ext cx="7543800" cy="213372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1219320"/>
            <a:ext cx="5486400" cy="609480"/>
          </a:xfrm>
          <a:prstGeom prst="rect">
            <a:avLst/>
          </a:prstGeom>
          <a:solidFill>
            <a:srgbClr val="fa8024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fdbfd"/>
                </a:solidFill>
                <a:latin typeface="Verdana"/>
              </a:rPr>
              <a:t>PLANIFIKAZIOA (3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1981080"/>
            <a:ext cx="51814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ekintza posible guztiak zerrendatu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2819520"/>
            <a:ext cx="2590560" cy="8380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praktiko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diren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2819520"/>
            <a:ext cx="3581280" cy="8380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ebaluazio-adierazle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dauzkatenak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57600" y="5257800"/>
            <a:ext cx="1828800" cy="380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ardur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81080" y="3809880"/>
            <a:ext cx="472464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 “</a:t>
            </a: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praktika onak” berreskuratze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29000" y="4756320"/>
            <a:ext cx="25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20206"/>
                </a:solidFill>
                <a:latin typeface="Verdana"/>
              </a:rPr>
              <a:t>kronogram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0" y="3962520"/>
            <a:ext cx="2286000" cy="1523880"/>
          </a:xfrm>
          <a:prstGeom prst="ellipse">
            <a:avLst/>
          </a:prstGeom>
          <a:solidFill>
            <a:srgbClr val="f2ea4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459f6"/>
                </a:solidFill>
                <a:latin typeface="Verdana"/>
              </a:rPr>
              <a:t>Kontuan izan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459f6"/>
                </a:solidFill>
                <a:latin typeface="Verdana"/>
              </a:rPr>
              <a:t>jada egiten diren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459f6"/>
                </a:solidFill>
                <a:latin typeface="Verdana"/>
              </a:rPr>
              <a:t>hainbat ekintza!!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666880" y="1143000"/>
            <a:ext cx="5650200" cy="609480"/>
          </a:xfrm>
          <a:prstGeom prst="rect">
            <a:avLst/>
          </a:prstGeom>
          <a:solidFill>
            <a:srgbClr val="f2ea4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Verdana"/>
              </a:rPr>
              <a:t>JARRAIPENA ETA  EBALUAZIO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2057400"/>
            <a:ext cx="2743200" cy="1523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eragileen ardurak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eta konpromezu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norberaren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taldeko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3733920"/>
            <a:ext cx="1981080" cy="17524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15280" y="5086440"/>
            <a:ext cx="132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4495680"/>
            <a:ext cx="1295640" cy="83844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gatazt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3733920"/>
            <a:ext cx="188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zailtasun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arazo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4495680"/>
            <a:ext cx="2743200" cy="381240"/>
          </a:xfrm>
          <a:prstGeom prst="rect">
            <a:avLst/>
          </a:prstGeom>
          <a:solidFill>
            <a:srgbClr val="373c7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Verdana"/>
              </a:rPr>
              <a:t>egongo di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66880" y="4876920"/>
            <a:ext cx="2667240" cy="380880"/>
          </a:xfrm>
          <a:prstGeom prst="rect">
            <a:avLst/>
          </a:prstGeom>
          <a:solidFill>
            <a:srgbClr val="3459f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Verdana"/>
              </a:rPr>
              <a:t>nola egin aurr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6520" y="5257800"/>
            <a:ext cx="3276360" cy="38088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Verdana"/>
              </a:rPr>
              <a:t>aukerak bihurtu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1828800"/>
            <a:ext cx="5257800" cy="205740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86200" y="2438280"/>
            <a:ext cx="4648320" cy="12956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752480"/>
            <a:ext cx="47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parte hartzeko espazioak eta denbora ema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2514600"/>
            <a:ext cx="2590560" cy="30492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utoretz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72200" y="2743200"/>
            <a:ext cx="2362320" cy="304920"/>
          </a:xfrm>
          <a:prstGeom prst="rect">
            <a:avLst/>
          </a:prstGeom>
          <a:solidFill>
            <a:srgbClr val="3459f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asanbla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62520" y="2971800"/>
            <a:ext cx="2438280" cy="38088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bitartekaritz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00600" y="3352680"/>
            <a:ext cx="3657600" cy="3049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Verdana"/>
              </a:rPr>
              <a:t>Elkarbizitza-Behatoki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38080"/>
            <a:ext cx="2743200" cy="1067040"/>
          </a:xfrm>
          <a:prstGeom prst="ellipse">
            <a:avLst/>
          </a:prstGeom>
          <a:solidFill>
            <a:srgbClr val="fa8024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Verdana"/>
              </a:rPr>
              <a:t>PUBLIZITATEA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05520" y="3962520"/>
            <a:ext cx="3733560" cy="167616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Verdana"/>
              </a:rPr>
              <a:t>elkarbizitzan arazo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Verdana"/>
              </a:rPr>
              <a:t>dauzkaten guzti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Verdana"/>
              </a:rPr>
              <a:t>jarraipen </a:t>
            </a:r>
            <a:r>
              <a:rPr b="1" lang="es-ES" sz="2800" spc="-1" strike="noStrike">
                <a:solidFill>
                  <a:srgbClr val="40458c"/>
                </a:solidFill>
                <a:latin typeface="Verdana"/>
              </a:rPr>
              <a:t>pertsonal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2ea48"/>
                </a:solidFill>
                <a:latin typeface="Verdana"/>
              </a:rPr>
              <a:t>zergatiak /pertson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057400" y="1143000"/>
            <a:ext cx="6330960" cy="609480"/>
          </a:xfrm>
          <a:prstGeom prst="rect">
            <a:avLst/>
          </a:prstGeom>
          <a:solidFill>
            <a:srgbClr val="f2ea4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Verdana"/>
              </a:rPr>
              <a:t>JARRAIPENA ETA EBALUAZIOA (2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828800"/>
            <a:ext cx="4876560" cy="16765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3c79"/>
                </a:solidFill>
                <a:latin typeface="Verdana"/>
              </a:rPr>
              <a:t>Ikaste-irakaste prozesua aztertu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0066"/>
                </a:solidFill>
                <a:latin typeface="Verdana"/>
              </a:rPr>
              <a:t>arrakasta guztiontza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0066"/>
                </a:solidFill>
                <a:latin typeface="Verdana"/>
              </a:rPr>
              <a:t>aprendizai kooperatibo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0066"/>
                </a:solidFill>
                <a:latin typeface="Verdana"/>
              </a:rPr>
              <a:t>disrupzioa: </a:t>
            </a:r>
            <a:r>
              <a:rPr b="1" i="1" lang="es-ES" sz="20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1" i="1" lang="es-ES" sz="2000" spc="-1" strike="noStrike">
                <a:solidFill>
                  <a:srgbClr val="660066"/>
                </a:solidFill>
                <a:latin typeface="Verdana"/>
              </a:rPr>
              <a:t>metodologi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1" i="1" lang="es-ES" sz="20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1" i="1" lang="es-ES" sz="2000" spc="-1" strike="noStrike">
                <a:solidFill>
                  <a:srgbClr val="660066"/>
                </a:solidFill>
                <a:latin typeface="Verdana"/>
              </a:rPr>
              <a:t>estrategi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15280" y="5086440"/>
            <a:ext cx="132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2362320"/>
            <a:ext cx="3810240" cy="19810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Curriculum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0066"/>
                </a:solidFill>
                <a:latin typeface="Verdana"/>
              </a:rPr>
              <a:t>Emozio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0066"/>
                </a:solidFill>
                <a:latin typeface="Verdana"/>
              </a:rPr>
              <a:t>Bizitzarako trebetasun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0066"/>
                </a:solidFill>
                <a:latin typeface="Verdana"/>
              </a:rPr>
              <a:t>Komunikazio-gaitasun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0066"/>
                </a:solidFill>
                <a:latin typeface="Verdana"/>
              </a:rPr>
              <a:t>Balioak eta hezkuntz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1" i="1" lang="es-ES" sz="2000" spc="-1" strike="noStrike">
                <a:solidFill>
                  <a:srgbClr val="660066"/>
                </a:solidFill>
                <a:latin typeface="Verdana"/>
              </a:rPr>
              <a:t>moral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4038480"/>
            <a:ext cx="4495680" cy="144792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Antolakuntza eta kudeaketa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Verdana"/>
              </a:rPr>
              <a:t>harrera jardunaldi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Verdana"/>
              </a:rPr>
              <a:t>espazioen azterket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Verdana"/>
              </a:rPr>
              <a:t>talde heterogeneoa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00600" y="5029200"/>
            <a:ext cx="3962520" cy="609480"/>
          </a:xfrm>
          <a:prstGeom prst="rect">
            <a:avLst/>
          </a:prstGeom>
          <a:solidFill>
            <a:srgbClr val="3459f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RESTAKUNTZ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0:11:08Z</dcterms:created>
  <dc:creator>-</dc:creator>
  <dc:description/>
  <dc:language>en-US</dc:language>
  <cp:lastModifiedBy>AHOLKULARIA</cp:lastModifiedBy>
  <dcterms:modified xsi:type="dcterms:W3CDTF">2007-10-11T09:30:23Z</dcterms:modified>
  <cp:revision>68</cp:revision>
  <dc:subject/>
  <dc:title>BIZIKIDETZA PLANA</dc:title>
</cp:coreProperties>
</file>