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B51-8DEA-4CDB-9E96-900949F9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CCB-3359-4CD1-B181-1F961321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D6D-EE80-4D5C-AD71-855D35D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2EA-FA55-4C96-B5AC-32370BAF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792-BF47-4EE5-B057-FEB1119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694-7BDF-484C-97B8-B50B154D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75F-7119-462E-BE28-23972989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CAE-6645-4A0A-9CB1-340F286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805-32FE-4A1C-884F-5C2212D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397-DDCA-4966-BB1C-D3A1690D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D32-0721-454E-B1A6-EDAA995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06B-4A6A-49EE-A04C-2B322DF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6EAA-AD60-48E6-BE4D-12B585D8B4A3}" type="slidenum"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1905120"/>
            <a:ext cx="2895840" cy="2684520"/>
          </a:xfrm>
          <a:prstGeom prst="rect">
            <a:avLst/>
          </a:prstGeom>
          <a:solidFill>
            <a:srgbClr val="0066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15320" y="614520"/>
            <a:ext cx="2865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r ikusten duz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1080" y="1528920"/>
            <a:ext cx="2251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r sentit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duz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1720" y="3433680"/>
            <a:ext cx="207648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in gal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bururat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aizkizu?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5600" y="5029200"/>
            <a:ext cx="3504600" cy="1557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Antzeko egoera bi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duzu inoi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rtan sentitzen z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inplikatur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05560" y="5181480"/>
            <a:ext cx="441288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in interpretazio edo irit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desberdinak eman daitez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ingurukoen art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971800"/>
            <a:ext cx="2590920" cy="265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r lotura egin ditzakezu honen eta bizitzaren beste esparruen art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080" y="1452600"/>
            <a:ext cx="227016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Zein 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0000"/>
                </a:solidFill>
                <a:latin typeface="Comic Sans MS"/>
              </a:rPr>
              <a:t>gai nagusia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76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86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958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955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2:02:14Z</dcterms:created>
  <dc:creator>-</dc:creator>
  <dc:description/>
  <dc:language>en-US</dc:language>
  <cp:lastModifiedBy>-</cp:lastModifiedBy>
  <dcterms:modified xsi:type="dcterms:W3CDTF">2006-10-02T18:25:01Z</dcterms:modified>
  <cp:revision>3</cp:revision>
  <dc:subject/>
  <dc:title>Presentación de PowerPoint</dc:title>
</cp:coreProperties>
</file>